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3FF-3A43-4212-8614-14AEDBF4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809-E84F-4D7A-960B-042D898B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9FB-3004-48F2-A13F-69C9B159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3C5-743B-4F57-AAB6-1B8450F6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786-12F0-4939-BF3B-B7609A1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D2B-2550-4C21-8AFE-53A2FEB2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E1F-A2CD-4BDB-A1DA-9FC9C1EC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DF4-B9DD-4128-9B4A-428BFD6F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1A5-00CF-4810-A349-5D49C191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708-169F-4410-AAF8-8B972BBD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30B-58A1-4212-863E-DCC4CDD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A35-C065-42BF-AA45-780F295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7505-C397-4BB3-BB6E-B5B4419D266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0" y="-27000"/>
            <a:ext cx="9144000" cy="1160640"/>
          </a:xfrm>
          <a:prstGeom prst="rect">
            <a:avLst/>
          </a:prstGeom>
          <a:gradFill rotWithShape="0">
            <a:gsLst>
              <a:gs pos="0">
                <a:srgbClr val="7a007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-1944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становление Министерства образования Республики Беларусь от 27.12.2017 №164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6480" y="-73080"/>
            <a:ext cx="2151000" cy="12366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"/>
          <p:cNvPicPr/>
          <p:nvPr/>
        </p:nvPicPr>
        <p:blipFill>
          <a:blip r:embed="rId2"/>
          <a:srcRect l="0" t="95759" r="0" b="0"/>
          <a:stretch/>
        </p:blipFill>
        <p:spPr>
          <a:xfrm>
            <a:off x="6335640" y="3141720"/>
            <a:ext cx="2808360" cy="10152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755640" y="132084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«Об установлении перечня документов, обязательных </a:t>
            </a:r>
            <a:br>
              <a:rPr sz="2200"/>
            </a:br>
            <a:r>
              <a:rPr b="1" lang="ru-RU" sz="2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для ведения отдельными педагогическими работниками, </a:t>
            </a:r>
            <a:br>
              <a:rPr sz="2200"/>
            </a:br>
            <a:r>
              <a:rPr b="1" lang="ru-RU" sz="2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и исключения практики привлечения педагогических работников к выполнению работ, не относящихся </a:t>
            </a:r>
            <a:br>
              <a:rPr sz="2200"/>
            </a:br>
            <a:r>
              <a:rPr b="1" lang="ru-RU" sz="2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к выполнению их трудовых функций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8920" y="3284640"/>
          <a:ext cx="8424720" cy="2712960"/>
        </p:xfrm>
        <a:graphic>
          <a:graphicData uri="http://schemas.openxmlformats.org/drawingml/2006/table">
            <a:tbl>
              <a:tblPr/>
              <a:tblGrid>
                <a:gridCol w="2484360"/>
                <a:gridCol w="1655640"/>
                <a:gridCol w="2881440"/>
                <a:gridCol w="1403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Кол-во док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Кол-во док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едагог-организ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Учитель-дефектолог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Руководитель физического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Учитель-дефектолог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К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99378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78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Рисунок 22" descr=""/>
          <p:cNvPicPr/>
          <p:nvPr/>
        </p:nvPicPr>
        <p:blipFill>
          <a:blip r:embed="rId3"/>
          <a:srcRect l="0" t="95749" r="0" b="0"/>
          <a:stretch/>
        </p:blipFill>
        <p:spPr>
          <a:xfrm>
            <a:off x="0" y="6566040"/>
            <a:ext cx="9144000" cy="291960"/>
          </a:xfrm>
          <a:prstGeom prst="rect">
            <a:avLst/>
          </a:prstGeom>
          <a:ln w="0">
            <a:noFill/>
          </a:ln>
        </p:spPr>
      </p:pic>
      <p:sp>
        <p:nvSpPr>
          <p:cNvPr id="48" name="Подзаголовок 2"/>
          <p:cNvSpPr/>
          <p:nvPr/>
        </p:nvSpPr>
        <p:spPr>
          <a:xfrm>
            <a:off x="611280" y="6093000"/>
            <a:ext cx="792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Управленческая документация не регламентиров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8717760" y="6143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0" y="-27000"/>
            <a:ext cx="9144000" cy="1160640"/>
          </a:xfrm>
          <a:prstGeom prst="rect">
            <a:avLst/>
          </a:prstGeom>
          <a:gradFill rotWithShape="0">
            <a:gsLst>
              <a:gs pos="0">
                <a:srgbClr val="7a007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-1944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становление Министерства образования Республики Беларусь от 27.12.2017 №164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6480" y="-73080"/>
            <a:ext cx="2151000" cy="1236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2" descr=""/>
          <p:cNvPicPr/>
          <p:nvPr/>
        </p:nvPicPr>
        <p:blipFill>
          <a:blip r:embed="rId2"/>
          <a:srcRect l="0" t="95749" r="0" b="0"/>
          <a:stretch/>
        </p:blipFill>
        <p:spPr>
          <a:xfrm>
            <a:off x="0" y="6566040"/>
            <a:ext cx="9144000" cy="29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42920" y="1211400"/>
          <a:ext cx="8858160" cy="5289480"/>
        </p:xfrm>
        <a:graphic>
          <a:graphicData uri="http://schemas.openxmlformats.org/drawingml/2006/table">
            <a:tbl>
              <a:tblPr/>
              <a:tblGrid>
                <a:gridCol w="5072040"/>
                <a:gridCol w="1643040"/>
                <a:gridCol w="214308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Учитель – 4 документа</a:t>
                      </a:r>
                      <a:br>
                        <a:rPr sz="20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Классный журнал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Календарно-тематическое планирова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оурочное планирова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Дневни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Воспитатель - 3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Журнал группы продленного дн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Календарно-тематическое планирование на четвер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Ежедневное 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Учитель, выполняющий функции классного руководителя - 5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Классный журнал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ланирование работы </a:t>
                      </a:r>
                      <a:r>
                        <a:rPr b="1" lang="ru-RU" sz="16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(на полугоди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Социально-педагогическая характеристика класс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Личная карточка уча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Дневни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Педагог – организатор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ланирование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(на полугод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0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Руководитель физического воспитания - 2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лан физкультурно-оздоровительных и спортивно-массовых мероприятий </a:t>
                      </a:r>
                      <a:r>
                        <a:rPr b="1" lang="ru-RU" sz="16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(на полугод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лан </a:t>
                      </a:r>
                      <a:r>
                        <a:rPr b="1" lang="ru-RU" sz="16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(сценарий) </a:t>
                      </a: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роведения физкультурно-оздоровительного и спортивно-массового меро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 - 3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Журнал планирования и учета работы объединений по интерес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рограмма объединения по интерес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План-конспект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5" name="Рисунок 6" descr=""/>
          <p:cNvPicPr/>
          <p:nvPr/>
        </p:nvPicPr>
        <p:blipFill>
          <a:blip r:embed="rId3"/>
          <a:srcRect l="0" t="95759" r="0" b="0"/>
          <a:stretch/>
        </p:blipFill>
        <p:spPr>
          <a:xfrm>
            <a:off x="6192720" y="4286160"/>
            <a:ext cx="2808360" cy="1033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7"/>
          <p:cNvSpPr/>
          <p:nvPr/>
        </p:nvSpPr>
        <p:spPr>
          <a:xfrm>
            <a:off x="8647200" y="6202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5T09:08:52Z</dcterms:created>
  <dc:creator>User</dc:creator>
  <dc:description/>
  <dc:language>en-US</dc:language>
  <cp:lastModifiedBy>0</cp:lastModifiedBy>
  <dcterms:modified xsi:type="dcterms:W3CDTF">2021-03-24T13:43:42Z</dcterms:modified>
  <cp:revision>88</cp:revision>
  <dc:subject/>
  <dc:title>Презентация PowerPoint</dc:title>
</cp:coreProperties>
</file>