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2.png" ContentType="image/png"/>
  <Override PartName="/ppt/media/image23.png" ContentType="image/png"/>
  <Override PartName="/ppt/media/image20.gif" ContentType="image/gif"/>
  <Override PartName="/ppt/media/image18.png" ContentType="image/png"/>
  <Override PartName="/ppt/media/image17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943A-A4F1-4B37-9B41-829AD7B45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CE57-3BC6-47C2-88F2-B745CEC9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C554-5AAA-4CF6-B159-6088E5547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796F-F581-41B3-B904-9E8F512F4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79BE-40D9-4510-ADDF-B463FCBF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9286-C766-40D2-B866-EB8939CC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1E7A-3F3C-4C07-9B58-E2F98A8D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36B0-7B25-406F-9640-2B428CC7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218F-1D12-424A-B7A3-F81CFF9F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8F92-AD78-4134-9745-18131C16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9B90-8849-49DD-864F-D77D71A7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A859-888D-41EB-BA22-CBF8C9DC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A36B-90AD-45F7-B477-4ABF460E3A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festival.1september.ru/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c00000"/>
                </a:solidFill>
                <a:latin typeface="Arial"/>
              </a:rPr>
              <a:t>Складанне і адніманне мнагачлена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 rot="1809000">
            <a:off x="7554600" y="1716120"/>
            <a:ext cx="1049400" cy="977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3305160" y="3116160"/>
            <a:ext cx="2533680" cy="2610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3"/>
          <a:stretch/>
        </p:blipFill>
        <p:spPr>
          <a:xfrm rot="18880200">
            <a:off x="1262880" y="5015160"/>
            <a:ext cx="1049400" cy="978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4"/>
          <a:stretch/>
        </p:blipFill>
        <p:spPr>
          <a:xfrm rot="20259600">
            <a:off x="676080" y="2367000"/>
            <a:ext cx="1049040" cy="97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5"/>
          <a:stretch/>
        </p:blipFill>
        <p:spPr>
          <a:xfrm rot="20259600">
            <a:off x="7022880" y="4672080"/>
            <a:ext cx="104904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779292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be-BY" sz="4000" spc="-1" strike="noStrike">
                <a:solidFill>
                  <a:srgbClr val="000000"/>
                </a:solidFill>
                <a:latin typeface="Arial"/>
              </a:rPr>
              <a:t>Сфармуліруйце правіла раскрыцця дужак, перад якімі стаіць знак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«плюс»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3635280" y="3549600"/>
            <a:ext cx="244944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be-BY" sz="4400" spc="-1" strike="noStrike">
                <a:solidFill>
                  <a:srgbClr val="000000"/>
                </a:solidFill>
                <a:latin typeface="Arial"/>
              </a:rPr>
              <a:t>Сфармуліруйце правіла раскрыцця дужак, перад якімі стаіць знак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«мінус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3348000" y="4076640"/>
            <a:ext cx="244800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4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be-BY" sz="4400" spc="-1" strike="noStrike">
                <a:solidFill>
                  <a:srgbClr val="000000"/>
                </a:solidFill>
                <a:latin typeface="Arial"/>
              </a:rPr>
              <a:t>Скажы мне і я забуду,</a:t>
            </a:r>
            <a:br>
              <a:rPr sz="4400"/>
            </a:br>
            <a:r>
              <a:rPr b="0" lang="be-BY" sz="4400" spc="-1" strike="noStrike">
                <a:solidFill>
                  <a:srgbClr val="000000"/>
                </a:solidFill>
                <a:latin typeface="Arial"/>
              </a:rPr>
              <a:t>Пакажы мне, і я запомню.</a:t>
            </a:r>
            <a:br>
              <a:rPr sz="4400"/>
            </a:br>
            <a:r>
              <a:rPr b="0" lang="be-BY" sz="4400" spc="-1" strike="noStrike">
                <a:solidFill>
                  <a:srgbClr val="000000"/>
                </a:solidFill>
                <a:latin typeface="Arial"/>
              </a:rPr>
              <a:t>Дай дзейнічаць самому, і я навучуся</a:t>
            </a:r>
            <a:br>
              <a:rPr sz="4400"/>
            </a:br>
            <a:r>
              <a:rPr b="0" i="1" lang="be-BY" sz="2800" spc="-1" strike="noStrike">
                <a:solidFill>
                  <a:srgbClr val="000000"/>
                </a:solidFill>
                <a:latin typeface="Arial"/>
              </a:rPr>
              <a:t>Кітайская мудрасц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3564000" y="4292640"/>
            <a:ext cx="321300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c00000"/>
                </a:solidFill>
                <a:latin typeface="Arial"/>
              </a:rPr>
              <a:t>Тэ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6000" y="1341000"/>
            <a:ext cx="6400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be-BY" sz="1800" spc="-1" strike="noStrike">
                <a:solidFill>
                  <a:srgbClr val="000000"/>
                </a:solidFill>
                <a:latin typeface="Arial"/>
              </a:rPr>
              <a:t>Складзіц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н</a:t>
            </a:r>
            <a:r>
              <a:rPr b="0" lang="be-BY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be-BY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лены: (2х + 7у) + (4х – 2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6х + 6у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х + 5у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.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х – 9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be-BY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be-BY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be-BY" sz="1800" spc="-1" strike="noStrike">
                <a:solidFill>
                  <a:srgbClr val="000000"/>
                </a:solidFill>
                <a:latin typeface="Arial"/>
              </a:rPr>
              <a:t>ціц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ра</a:t>
            </a:r>
            <a:r>
              <a:rPr b="0" lang="be-BY" sz="1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(7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+ 2а) – (4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– 3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+ 5а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.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– а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+ 5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Раскр</a:t>
            </a:r>
            <a:r>
              <a:rPr b="0" lang="be-BY" sz="1800" spc="-1" strike="noStrike">
                <a:solidFill>
                  <a:srgbClr val="000000"/>
                </a:solidFill>
                <a:latin typeface="Arial"/>
              </a:rPr>
              <a:t>ыйце дужк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– 3х(2х + 3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.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6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– 9ху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5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– 6ху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6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+ 3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be-BY" sz="1800" spc="-1" strike="noStrike">
                <a:solidFill>
                  <a:srgbClr val="000000"/>
                </a:solidFill>
                <a:latin typeface="Arial"/>
              </a:rPr>
              <a:t> Вызначце ступень мнагачлена стандартнага выгля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be-BY" sz="1800" spc="-1" strike="noStrike">
                <a:solidFill>
                  <a:srgbClr val="000000"/>
                </a:solidFill>
                <a:latin typeface="Arial"/>
              </a:rPr>
              <a:t>) ; </a:t>
            </a:r>
            <a:r>
              <a:rPr b="1" lang="be-BY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be-BY" sz="1800" spc="-1" strike="noStrike">
                <a:solidFill>
                  <a:srgbClr val="000000"/>
                </a:solidFill>
                <a:latin typeface="Arial"/>
              </a:rPr>
              <a:t>) ; </a:t>
            </a:r>
            <a:r>
              <a:rPr b="1" lang="be-BY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be-BY" sz="1800" spc="-1" strike="noStrike">
                <a:solidFill>
                  <a:srgbClr val="000000"/>
                </a:solidFill>
                <a:latin typeface="Arial"/>
              </a:rPr>
              <a:t>) ; </a:t>
            </a:r>
            <a:r>
              <a:rPr b="1" lang="be-BY" sz="1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be-BY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be-BY" sz="1800" spc="-1" strike="noStrike">
                <a:solidFill>
                  <a:srgbClr val="000000"/>
                </a:solidFill>
                <a:latin typeface="Arial"/>
              </a:rPr>
              <a:t>Назавіце выраз, які з’яўляецца мнагачлен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be-BY" sz="18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1" lang="be-BY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be-BY" sz="1800" spc="-1" strike="noStrike">
                <a:solidFill>
                  <a:srgbClr val="000000"/>
                </a:solidFill>
                <a:latin typeface="Arial"/>
              </a:rPr>
              <a:t>) ; </a:t>
            </a:r>
            <a:r>
              <a:rPr b="1" lang="be-BY" sz="1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be-BY" sz="1800" spc="-1" strike="noStrike">
                <a:solidFill>
                  <a:srgbClr val="000000"/>
                </a:solidFill>
                <a:latin typeface="Arial"/>
              </a:rPr>
              <a:t>) ; </a:t>
            </a:r>
            <a:r>
              <a:rPr b="1" lang="be-BY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be-BY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Р</a:t>
            </a:r>
            <a:r>
              <a:rPr b="0" lang="be-BY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be-BY" sz="1800" spc="-1" strike="noStrike">
                <a:solidFill>
                  <a:srgbClr val="000000"/>
                </a:solidFill>
                <a:latin typeface="Arial"/>
              </a:rPr>
              <a:t>ыце ўраўнен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(23 + 3х) + (8х – 41) = 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3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.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1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c00000"/>
                </a:solidFill>
                <a:latin typeface="Arial"/>
              </a:rPr>
              <a:t>Самуіл Якаўлевіч Марш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000000"/>
                </a:solidFill>
                <a:latin typeface="Arial"/>
              </a:rPr>
              <a:t>Няхай кожны дзень і кожную гадзі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ам новое </a:t>
            </a:r>
            <a:r>
              <a:rPr b="1" i="1" lang="be-BY" sz="2800" spc="-1" strike="noStrike">
                <a:solidFill>
                  <a:srgbClr val="000000"/>
                </a:solidFill>
                <a:latin typeface="Arial"/>
              </a:rPr>
              <a:t>здабудзе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000000"/>
                </a:solidFill>
                <a:latin typeface="Arial"/>
              </a:rPr>
              <a:t>Няхай добрым будзе розум у ва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 с</a:t>
            </a:r>
            <a:r>
              <a:rPr b="1" i="1" lang="be-BY" sz="2800" spc="-1" strike="noStrike">
                <a:solidFill>
                  <a:srgbClr val="000000"/>
                </a:solidFill>
                <a:latin typeface="Arial"/>
              </a:rPr>
              <a:t>эрца разумным будз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6732720" y="1700280"/>
            <a:ext cx="1871640" cy="23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95280" y="109548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000000"/>
                </a:solidFill>
                <a:latin typeface="Arial"/>
              </a:rPr>
              <a:t>Гэта герой  старажытнагрэцкай міфалогіі, удзельнік Траянскай вай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к</a:t>
            </a:r>
            <a:r>
              <a:rPr b="0" lang="be-BY" sz="20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рылаты выраз звязана з імем гэтага геро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e-BY" sz="2000" spc="-1" strike="noStrike">
                <a:solidFill>
                  <a:srgbClr val="000000"/>
                </a:solidFill>
                <a:latin typeface="Arial"/>
              </a:rPr>
              <a:t>Маці Ахілеса, Фетыда, акунула немаўля ў воды падземнай рэчкі, якія робяць чалавека непаражальным. Пры гэтым апусканні яна трымала Ахілеса за пятку, якая засталася сухой і, такім чынам, уразлівай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дчас Траянскай вайны страла ворага трапіла Ахілес ў пятку, у выніку чаго ён і памё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з «Ахілесава пята» ў пераносным сэнсе азначае «слабое, слабае месц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400" spc="-1" strike="noStrike">
                <a:solidFill>
                  <a:srgbClr val="000000"/>
                </a:solidFill>
                <a:latin typeface="Arial"/>
              </a:rPr>
              <a:t>АХІЛЕ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rcRect l="15559" t="13921" r="-5748" b="14982"/>
          <a:stretch/>
        </p:blipFill>
        <p:spPr>
          <a:xfrm>
            <a:off x="6516720" y="404640"/>
            <a:ext cx="2816280" cy="1665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279360" y="5373720"/>
            <a:ext cx="8557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400" spc="-1" strike="noStrike">
                <a:solidFill>
                  <a:srgbClr val="000000"/>
                </a:solidFill>
                <a:latin typeface="Arial"/>
              </a:rPr>
              <a:t>Міфічныя геро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Arial"/>
              </a:rPr>
              <a:t>Мінатаўра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іфічны персанаж з галавой быка і целам чалаве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Arial"/>
              </a:rPr>
              <a:t>Кентаўр - 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ота з галавой чалавека і целам ка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042920" y="3068640"/>
            <a:ext cx="2879640" cy="3416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4932360" y="3213000"/>
            <a:ext cx="2881440" cy="22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400" spc="-1" strike="noStrike">
                <a:solidFill>
                  <a:srgbClr val="000000"/>
                </a:solidFill>
                <a:latin typeface="Arial"/>
              </a:rPr>
              <a:t>Міфічныя геро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Arial"/>
              </a:rPr>
              <a:t>Сфінкс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эта персанаж, які мае галаву чалавека, цела льва і крылы птушкі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Arial"/>
              </a:rPr>
              <a:t>Хімера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іфалагічныя істота з вогнедышнай ільвінай пашчай, тулавам казы і хвастом драк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4859280" y="4076640"/>
            <a:ext cx="2517840" cy="1776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rcRect l="0" t="0" r="0" b="39757"/>
          <a:stretch/>
        </p:blipFill>
        <p:spPr>
          <a:xfrm>
            <a:off x="971640" y="3359160"/>
            <a:ext cx="266364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400" spc="-1" strike="noStrike">
                <a:solidFill>
                  <a:srgbClr val="000000"/>
                </a:solidFill>
                <a:latin typeface="Arial"/>
              </a:rPr>
              <a:t>Міфічныя геро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Arial"/>
              </a:rPr>
              <a:t>Шэ’ду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ылаты бык з чалавечым тварам і пяццю нагам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2868480" y="3284640"/>
            <a:ext cx="334656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400" spc="-1" strike="noStrike">
                <a:solidFill>
                  <a:srgbClr val="333399"/>
                </a:solidFill>
                <a:latin typeface="Arial"/>
              </a:rPr>
              <a:t>Вылічыце перыметр трохвугольні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3564000" y="1773360"/>
            <a:ext cx="2712960" cy="25923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6" descr="урок"/>
          <p:cNvPicPr/>
          <p:nvPr/>
        </p:nvPicPr>
        <p:blipFill>
          <a:blip r:embed="rId2"/>
          <a:stretch/>
        </p:blipFill>
        <p:spPr>
          <a:xfrm>
            <a:off x="285840" y="1214280"/>
            <a:ext cx="2214360" cy="2000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3"/>
          <a:stretch/>
        </p:blipFill>
        <p:spPr>
          <a:xfrm>
            <a:off x="6156360" y="5084640"/>
            <a:ext cx="163980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800080"/>
                </a:solidFill>
                <a:latin typeface="Arial"/>
              </a:rPr>
              <a:t>Назавіце падобныя складаемыя: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87ах-34ау-33ах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5а-3с+6в+3с-3в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15в-7-9,7в-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33ах </a:t>
            </a:r>
            <a:r>
              <a:rPr b="0" lang="be-BY" sz="2800" spc="-1" strike="noStrike">
                <a:solidFill>
                  <a:srgbClr val="cc0000"/>
                </a:solidFill>
                <a:latin typeface="Arial"/>
              </a:rPr>
              <a:t>і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87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-3с і 3с; 6в і -3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  <a:ea typeface="Arial"/>
              </a:rPr>
              <a:t>15в і –9,7в;  -7 і -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vveden1_2"/>
          <p:cNvPicPr/>
          <p:nvPr/>
        </p:nvPicPr>
        <p:blipFill>
          <a:blip r:embed="rId1"/>
          <a:stretch/>
        </p:blipFill>
        <p:spPr>
          <a:xfrm>
            <a:off x="2916360" y="5373720"/>
            <a:ext cx="1423800" cy="13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000000"/>
                </a:solidFill>
                <a:latin typeface="Arial"/>
              </a:rPr>
              <a:t>Гульня “Правільнае і няправільнае сцверджанне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Rectangle 3" descr=""/>
          <p:cNvPicPr/>
          <p:nvPr/>
        </p:nvPicPr>
        <p:blipFill>
          <a:blip r:embed="rId1"/>
          <a:stretch/>
        </p:blipFill>
        <p:spPr>
          <a:xfrm>
            <a:off x="536400" y="1468440"/>
            <a:ext cx="4894560" cy="41464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28760" y="1285920"/>
            <a:ext cx="342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0066"/>
                </a:solidFill>
                <a:latin typeface="Arial"/>
              </a:rPr>
              <a:t>Ёсць памы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0066"/>
                </a:solidFill>
                <a:latin typeface="Arial"/>
              </a:rPr>
              <a:t>Правіль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0066"/>
                </a:solidFill>
                <a:latin typeface="Arial"/>
              </a:rPr>
              <a:t>Ёсць памы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0066"/>
                </a:solidFill>
                <a:latin typeface="Arial"/>
              </a:rPr>
              <a:t>Правіль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0066"/>
                </a:solidFill>
                <a:latin typeface="Arial"/>
              </a:rPr>
              <a:t>Ёсць памы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3851280" y="5661000"/>
            <a:ext cx="96372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800" spc="-1" strike="noStrike">
                <a:solidFill>
                  <a:srgbClr val="333399"/>
                </a:solidFill>
                <a:latin typeface="Arial"/>
              </a:rPr>
              <a:t>Рэфлексія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то вывучыл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то спадабала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то не спадабала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то атрымала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то не атрымала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і ёсць яшчэ да чаго імкнуц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і дасягнулі мэтаў уро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800" spc="-1" strike="noStrike">
                <a:solidFill>
                  <a:srgbClr val="333399"/>
                </a:solidFill>
                <a:latin typeface="Arial"/>
              </a:rPr>
              <a:t>На дом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be-BY" sz="3200" spc="-1" strike="noStrike">
                <a:solidFill>
                  <a:srgbClr val="000000"/>
                </a:solidFill>
                <a:latin typeface="Arial"/>
              </a:rPr>
              <a:t>3.37(ц), 3.39(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http://forumsmile.ru/u/3/a/3/3a39722ed6c06caad7f2d1a3342827ae.gif"/>
          <p:cNvPicPr/>
          <p:nvPr/>
        </p:nvPicPr>
        <p:blipFill>
          <a:blip r:embed="rId1"/>
          <a:stretch/>
        </p:blipFill>
        <p:spPr>
          <a:xfrm>
            <a:off x="539640" y="260280"/>
            <a:ext cx="1071720" cy="1468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Animate0030"/>
          <p:cNvPicPr/>
          <p:nvPr/>
        </p:nvPicPr>
        <p:blipFill>
          <a:blip r:embed="rId2"/>
          <a:stretch/>
        </p:blipFill>
        <p:spPr>
          <a:xfrm>
            <a:off x="3419640" y="3357720"/>
            <a:ext cx="2511360" cy="1963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3"/>
          <a:stretch/>
        </p:blipFill>
        <p:spPr>
          <a:xfrm>
            <a:off x="6948360" y="0"/>
            <a:ext cx="200052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Сп</a:t>
            </a:r>
            <a:r>
              <a:rPr b="1" lang="be-BY" sz="3200" spc="-1" strike="noStrike">
                <a:solidFill>
                  <a:srgbClr val="0070c0"/>
                </a:solidFill>
                <a:latin typeface="Arial"/>
              </a:rPr>
              <a:t>і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с</a:t>
            </a:r>
            <a:r>
              <a:rPr b="1" lang="be-BY" sz="3200" spc="-1" strike="noStrike">
                <a:solidFill>
                  <a:srgbClr val="0070c0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к л</a:t>
            </a:r>
            <a:r>
              <a:rPr b="1" lang="be-BY" sz="3200" spc="-1" strike="noStrike">
                <a:solidFill>
                  <a:srgbClr val="0070c0"/>
                </a:solidFill>
                <a:latin typeface="Arial"/>
              </a:rPr>
              <a:t>і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т</a:t>
            </a:r>
            <a:r>
              <a:rPr b="1" lang="be-BY" sz="3200" spc="-1" strike="noStrike">
                <a:solidFill>
                  <a:srgbClr val="0070c0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ратуры </a:t>
            </a:r>
            <a:r>
              <a:rPr b="1" lang="be-BY" sz="3200" spc="-1" strike="noStrike">
                <a:solidFill>
                  <a:srgbClr val="0070c0"/>
                </a:solidFill>
                <a:latin typeface="Arial"/>
              </a:rPr>
              <a:t>і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 электрон</a:t>
            </a:r>
            <a:r>
              <a:rPr b="1" lang="be-BY" sz="3200" spc="-1" strike="noStrike">
                <a:solidFill>
                  <a:srgbClr val="0070c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ых </a:t>
            </a:r>
            <a:r>
              <a:rPr b="1" lang="be-BY" sz="3200" spc="-1" strike="noStrike">
                <a:solidFill>
                  <a:srgbClr val="0070c0"/>
                </a:solidFill>
                <a:latin typeface="Arial"/>
              </a:rPr>
              <a:t>адукацыйных рэ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сурс</a:t>
            </a:r>
            <a:r>
              <a:rPr b="1" lang="be-BY" sz="3200" spc="-1" strike="noStrike">
                <a:solidFill>
                  <a:srgbClr val="0070c0"/>
                </a:solidFill>
                <a:latin typeface="Arial"/>
              </a:rPr>
              <a:t>аў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:</a:t>
            </a:r>
            <a:br>
              <a:rPr sz="3200"/>
            </a:br>
            <a:br>
              <a:rPr sz="4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Алгебра</a:t>
            </a:r>
            <a:r>
              <a:rPr b="0" lang="be-BY" sz="2000" spc="-1" strike="noStrike">
                <a:solidFill>
                  <a:srgbClr val="000000"/>
                </a:solidFill>
                <a:latin typeface="Arial"/>
              </a:rPr>
              <a:t>: вучэб. дапам.  дл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be-BY" sz="2000" spc="-1" strike="noStrike">
                <a:solidFill>
                  <a:srgbClr val="000000"/>
                </a:solidFill>
                <a:latin typeface="Arial"/>
              </a:rPr>
              <a:t>-г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л</a:t>
            </a:r>
            <a:r>
              <a:rPr b="0" lang="be-BY" sz="2000" spc="-1" strike="noStrike">
                <a:solidFill>
                  <a:srgbClr val="000000"/>
                </a:solidFill>
                <a:latin typeface="Arial"/>
              </a:rPr>
              <a:t>. устаноў агул. сярэд. адукацыі  з беларус. мовай навучання/ А.П. Кузняцов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be-BY" sz="2000" spc="-1" strike="noStrike">
                <a:solidFill>
                  <a:srgbClr val="000000"/>
                </a:solidFill>
                <a:latin typeface="Arial"/>
              </a:rPr>
              <a:t>і нш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be-BY" sz="2000" spc="-1" strike="noStrike">
                <a:solidFill>
                  <a:srgbClr val="000000"/>
                </a:solidFill>
                <a:latin typeface="Arial"/>
              </a:rPr>
              <a:t> ; пад рэд. праф. Л.Б. Шнэпермана; пер. з рус. мовы Н.М.Алганавай. – 4-е выд., выпр. -  Мінск: Народная асвета, 2014. – 318с. :іл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000000"/>
                </a:solidFill>
                <a:latin typeface="Arial"/>
              </a:rPr>
              <a:t>2) Кун Н. А. Легенды и мифы Древней Греции. 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.: ВИКА-пресс: Арктос, 199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e-BY" sz="2000" spc="-1" strike="noStrike">
                <a:solidFill>
                  <a:srgbClr val="000000"/>
                </a:solidFill>
                <a:latin typeface="Arial"/>
              </a:rPr>
              <a:t>Зборнік задач па алгебры: вучэб. дапам.  дл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be-BY" sz="2000" spc="-1" strike="noStrike">
                <a:solidFill>
                  <a:srgbClr val="000000"/>
                </a:solidFill>
                <a:latin typeface="Arial"/>
              </a:rPr>
              <a:t>-г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л</a:t>
            </a:r>
            <a:r>
              <a:rPr b="0" lang="be-BY" sz="2000" spc="-1" strike="noStrike">
                <a:solidFill>
                  <a:srgbClr val="000000"/>
                </a:solidFill>
                <a:latin typeface="Arial"/>
              </a:rPr>
              <a:t>. устаноў агул. сярэд. адукацыі  з беларус. мовай навучання/ А.П. Кузняцов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be-BY" sz="2000" spc="-1" strike="noStrike">
                <a:solidFill>
                  <a:srgbClr val="000000"/>
                </a:solidFill>
                <a:latin typeface="Arial"/>
              </a:rPr>
              <a:t>і нш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be-BY" sz="2000" spc="-1" strike="noStrike">
                <a:solidFill>
                  <a:srgbClr val="000000"/>
                </a:solidFill>
                <a:latin typeface="Arial"/>
              </a:rPr>
              <a:t> ; пад рэд. праф. Л.Б. Шнэпермана.  -  Мінск: Нац. ін-т адукацыі, 2012. – 192с. :і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festival.1september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Прямоугольник 2" descr=""/>
          <p:cNvPicPr/>
          <p:nvPr/>
        </p:nvPicPr>
        <p:blipFill>
          <a:blip r:embed="rId1"/>
          <a:stretch/>
        </p:blipFill>
        <p:spPr>
          <a:xfrm>
            <a:off x="628560" y="743040"/>
            <a:ext cx="7723440" cy="3457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2484360" y="3141720"/>
            <a:ext cx="403560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3399"/>
                </a:solidFill>
                <a:latin typeface="Arial"/>
              </a:rPr>
              <a:t>Якія складаемыя называюцца падобнымі?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00"/>
                </a:solidFill>
                <a:latin typeface="Arial"/>
              </a:rPr>
              <a:t>Складаемыя, якія маюць аднолькавую літарную частку называюцца падобнымі складаемымі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6659640" y="4724280"/>
            <a:ext cx="1427040" cy="13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66"/>
                </a:solidFill>
                <a:latin typeface="Arial"/>
              </a:rPr>
              <a:t>Прывядзіце падобныя складаемыя: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7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а-9а=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,7х-3,9х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3,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3,9у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а+2в-12а=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11х-13х+1=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а-а+2в-6в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12с-а+7а+6с=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-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-1,2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6а+2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-24х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17а-4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6а-6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7380360" y="5084640"/>
            <a:ext cx="1427040" cy="13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000" spc="-1" strike="noStrike">
                <a:solidFill>
                  <a:srgbClr val="000000"/>
                </a:solidFill>
                <a:latin typeface="Arial"/>
              </a:rPr>
              <a:t>Што такое паліно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000" spc="-1" strike="noStrike">
                <a:solidFill>
                  <a:srgbClr val="cc0000"/>
                </a:solidFill>
                <a:latin typeface="Arial"/>
              </a:rPr>
              <a:t>Сума адначленаў (маномаў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5940360" y="4437000"/>
            <a:ext cx="14274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000" spc="-1" strike="noStrike">
                <a:solidFill>
                  <a:srgbClr val="000000"/>
                </a:solidFill>
                <a:latin typeface="Arial"/>
              </a:rPr>
              <a:t>Што такое мано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000" spc="-1" strike="noStrike">
                <a:solidFill>
                  <a:srgbClr val="cc0000"/>
                </a:solidFill>
                <a:latin typeface="Arial"/>
              </a:rPr>
              <a:t>Здабытак лікаў, зменных і іх ступеня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6516720" y="4508640"/>
            <a:ext cx="14270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000" spc="-1" strike="noStrike">
                <a:solidFill>
                  <a:srgbClr val="000000"/>
                </a:solidFill>
                <a:latin typeface="Arial"/>
              </a:rPr>
              <a:t>Як называецца лікавы множнік у адначлен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000" spc="-1" strike="noStrike">
                <a:solidFill>
                  <a:srgbClr val="cc0000"/>
                </a:solidFill>
                <a:latin typeface="Arial"/>
              </a:rPr>
              <a:t>каэфіцые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3635280" y="3765600"/>
            <a:ext cx="244944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000" spc="-1" strike="noStrike">
                <a:solidFill>
                  <a:srgbClr val="000000"/>
                </a:solidFill>
                <a:latin typeface="Arial"/>
              </a:rPr>
              <a:t>Як знайсці ступень адначлен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000" spc="-1" strike="noStrike">
                <a:solidFill>
                  <a:srgbClr val="cc0000"/>
                </a:solidFill>
                <a:latin typeface="Arial"/>
              </a:rPr>
              <a:t>Неабходна скласці паказчыкі ў літарнай час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6227640" y="3860640"/>
            <a:ext cx="265932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000" spc="-1" strike="noStrike">
                <a:solidFill>
                  <a:srgbClr val="000000"/>
                </a:solidFill>
                <a:latin typeface="Arial"/>
              </a:rPr>
              <a:t>Як знайсці ступень мнагачлен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000" spc="-1" strike="noStrike">
                <a:solidFill>
                  <a:srgbClr val="cc0000"/>
                </a:solidFill>
                <a:latin typeface="Arial"/>
              </a:rPr>
              <a:t>Найбольшы паказчык адначлена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6156360" y="3819600"/>
            <a:ext cx="216072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06:06:43Z</dcterms:created>
  <dc:creator>фаворит</dc:creator>
  <dc:description/>
  <dc:language>en-US</dc:language>
  <cp:lastModifiedBy>User</cp:lastModifiedBy>
  <dcterms:modified xsi:type="dcterms:W3CDTF">2015-11-17T10:06:12Z</dcterms:modified>
  <cp:revision>24</cp:revision>
  <dc:subject/>
  <dc:title>Слайд 1</dc:title>
</cp:coreProperties>
</file>