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88F-1B16-4FB6-98F2-5917740B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E667-C2AE-497C-B7C5-E08EF6E0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553-9175-4CDA-8934-BE18BB94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4AA-9866-412E-906C-09A7B576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ED3E-739E-439B-96C5-E633AE7E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4D01-4D00-4AB1-97CD-5D0DCEA2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EE1A-C490-4C1A-807A-BB6E6E44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5410-1CC2-4915-9FDD-DA442B4A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9F48-7A40-4986-A5DF-0A9DF2F6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21F3-F5B5-4541-8599-1C00650A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F0ED-AD32-4013-BCAE-DA878AB7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EE32-27D7-4441-912E-C55EB3A7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3D5A-7BAB-42F1-A94E-E09BD96C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D375-F44B-4C24-B0CA-C52A9000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3504-3721-4142-8C42-B20402CC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09FA-B875-4A84-A1C3-14555E19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17E3-1A34-4FEE-BC8D-FE8E6C04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23F-24BA-497D-B3AD-C20A31C7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6AC-4FB7-430B-9DA0-424DFE82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176-BECC-46CE-9BD2-D3492DA0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7E4-356C-4CAD-AD92-7BEEA704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7CA-7AE0-4924-BE03-942361A8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62F-B450-4205-ADCF-642AA1FD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1C4-06BA-4C38-83F8-5228C562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F6C1-2EBE-4534-908D-56D4F2EA04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5D4C-874D-4F14-B679-43664AA02C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3657600" y="5257800"/>
            <a:ext cx="5105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514600" y="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Тема: </a:t>
            </a:r>
            <a:r>
              <a:rPr b="0" lang="ru-RU" sz="8800" spc="-1" strike="noStrike">
                <a:solidFill>
                  <a:srgbClr val="262673"/>
                </a:solidFill>
                <a:latin typeface="Monotype Corsiva"/>
              </a:rPr>
              <a:t>Понятие о причастном обороте</a:t>
            </a:r>
            <a:endParaRPr b="0" lang="en-US" sz="8800" spc="-1" strike="noStrike">
              <a:solidFill>
                <a:srgbClr val="3366ff"/>
              </a:solidFill>
              <a:latin typeface="Majest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62673"/>
                </a:solidFill>
                <a:latin typeface="Monotype Corsiva"/>
              </a:rPr>
              <a:t>Поленов В.Д. «Первый снег»</a:t>
            </a:r>
            <a:endParaRPr b="0" lang="en-US" sz="48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104" name="Содержимое 3" descr="Поленов В.Д. Первый снег 1891 (700x371, 219Kb)"/>
          <p:cNvPicPr/>
          <p:nvPr/>
        </p:nvPicPr>
        <p:blipFill>
          <a:blip r:embed="rId1"/>
          <a:stretch/>
        </p:blipFill>
        <p:spPr>
          <a:xfrm>
            <a:off x="457200" y="1219320"/>
            <a:ext cx="8381880" cy="4751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73"/>
                </a:solidFill>
                <a:latin typeface="Monotype Corsiva"/>
              </a:rPr>
              <a:t>Музыка, которая</a:t>
            </a:r>
            <a:endParaRPr b="0" lang="en-US" sz="54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н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е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ораж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пч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р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ли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зы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7625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н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еня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ня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ораживающ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пчу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ливающая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зыва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onotype Corsiva"/>
              </a:rPr>
              <a:t>Сравним: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2209320"/>
            <a:ext cx="38880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ванная ль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зившаяся в озере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762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ванная 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зившаяся л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onotype Corsiva"/>
              </a:rPr>
              <a:t>Причастный оборот - 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2361960"/>
            <a:ext cx="8153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астие 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ыми слов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onotype Corsiva"/>
              </a:rPr>
              <a:t>Сравните: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самой весны безмолвствует река, скованная ль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самой весны безмолвствует скованная льдом р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а, скованная льдом, безмолвствует до самой вес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542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увидели луч солнца, робко пробивающийся сквозь серовато-белые обла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542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Патриот </a:t>
            </a:r>
            <a:r>
              <a:rPr b="0" lang="ru-RU" sz="4800" spc="-1" strike="noStrike">
                <a:solidFill>
                  <a:srgbClr val="262673"/>
                </a:solidFill>
                <a:latin typeface="Monotype Corsiva"/>
              </a:rPr>
              <a:t>– греч. «патри» – родина, Отечество.</a:t>
            </a:r>
            <a:br>
              <a:rPr sz="4800"/>
            </a:br>
            <a:endParaRPr b="0" lang="en-US" sz="48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54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, горячо любящий род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542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, преданный какому – либо де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533520" y="6094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ушки вековых елей, призрачно освещенные звездами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685800" y="21337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, стоявшие по колено в сугробах,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685800" y="38098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, все засыпанное зимними звезд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62673"/>
                </a:solidFill>
                <a:latin typeface="Monotype Corsiva"/>
              </a:rPr>
              <a:t>Тест</a:t>
            </a:r>
            <a:endParaRPr b="0" lang="en-US" sz="8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SzPct val="154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SzPct val="154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SzPct val="154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44197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РУШАЕТСЯ ЦЕЛОСТНОСТЬ ПРИЧАСТНОГО ОБОРОТА</a:t>
            </a:r>
            <a:br>
              <a:rPr sz="4000"/>
            </a:br>
            <a:endParaRPr b="0" lang="en-US" sz="36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456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одящег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лнц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горизон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ягким зелёным сумраком лился сквозь листву кашт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одящег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горизон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лнца мягким зелёным сумраком лился сквозь листву каштанов (нарушается целостность причастного оборо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3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3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onotype Corsiva"/>
              </a:rPr>
              <a:t> </a:t>
            </a:r>
            <a:br>
              <a:rPr sz="6000"/>
            </a:br>
            <a:r>
              <a:rPr b="0" lang="ru-RU" sz="6000" spc="-1" strike="noStrike">
                <a:solidFill>
                  <a:srgbClr val="333399"/>
                </a:solidFill>
                <a:latin typeface="Monotype Corsiva"/>
              </a:rPr>
              <a:t>Знание только </a:t>
            </a:r>
            <a:br>
              <a:rPr sz="6000"/>
            </a:br>
            <a:r>
              <a:rPr b="0" lang="ru-RU" sz="6000" spc="-1" strike="noStrike">
                <a:solidFill>
                  <a:srgbClr val="333399"/>
                </a:solidFill>
                <a:latin typeface="Monotype Corsiva"/>
              </a:rPr>
              <a:t>тогда знание,</a:t>
            </a:r>
            <a:br>
              <a:rPr sz="6000"/>
            </a:br>
            <a:r>
              <a:rPr b="0" lang="ru-RU" sz="6000" spc="-1" strike="noStrike">
                <a:solidFill>
                  <a:srgbClr val="333399"/>
                </a:solidFill>
                <a:latin typeface="Monotype Corsiva"/>
              </a:rPr>
              <a:t>когда оно приобретено усилиями своей мысли, </a:t>
            </a:r>
            <a:br>
              <a:rPr sz="6000"/>
            </a:br>
            <a:r>
              <a:rPr b="0" lang="ru-RU" sz="6000" spc="-1" strike="noStrike">
                <a:solidFill>
                  <a:srgbClr val="333399"/>
                </a:solidFill>
                <a:latin typeface="Monotype Corsiva"/>
              </a:rPr>
              <a:t>а не памятью.</a:t>
            </a:r>
            <a:br>
              <a:rPr sz="6000"/>
            </a:br>
            <a:r>
              <a:rPr b="0" lang="ru-RU" sz="8800" spc="-1" strike="noStrike">
                <a:solidFill>
                  <a:srgbClr val="3366ff"/>
                </a:solidFill>
                <a:latin typeface="Majestic"/>
              </a:rPr>
              <a:t>                                                                         </a:t>
            </a:r>
            <a:endParaRPr b="0" lang="en-US" sz="88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257440" y="5181480"/>
            <a:ext cx="30481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Л.Н.Толс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1800" y="3886200"/>
            <a:ext cx="826956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МЕШИВАЮТСЯ ДЕЙСТВИТЕЛЬНЫЕ И СТРАДАТЕЛЬНЫЕ ПРИЧАСТИЯ</a:t>
            </a:r>
            <a:br>
              <a:rPr sz="4000"/>
            </a:br>
            <a:endParaRPr b="0" lang="en-US" sz="4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304920"/>
            <a:ext cx="815328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аблуком иногда ломалось оконное стекло льда, затянутого (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: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янувшего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устую луж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41148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РИЧАСТНЫЙ ОБОРОТ ЗАНИМАЕТ НЕПРАВИЛЬНОЕ ПОЛОЖЕНИЕ ПО ОТНОШЕНИЮ К ОПРЕДЕЛЯЕМОМУ СЛОВУ</a:t>
            </a:r>
            <a:endParaRPr b="0" lang="en-US" sz="36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456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лунный луч скупо освещал тот угол, просочившийся сквозь пыльное ок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лунный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сочившийся сквозь пыльное окно, скупо освещал тот уго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Monotype Corsiva"/>
              </a:rPr>
              <a:t>Спасибо за внимание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onotype Corsiva"/>
              </a:rPr>
              <a:t>Пётр Ильич Чайковский</a:t>
            </a:r>
            <a:br>
              <a:rPr sz="6000"/>
            </a:br>
            <a:r>
              <a:rPr b="0" lang="ru-RU" sz="6000" spc="-1" strike="noStrike">
                <a:solidFill>
                  <a:srgbClr val="3366ff"/>
                </a:solidFill>
                <a:latin typeface="Monotype Corsiva"/>
              </a:rPr>
              <a:t>                     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88" name="Picture 4" descr="http://aca-music.ru/csm/wp-content/uploads/2013/10/27.jpg"/>
          <p:cNvPicPr/>
          <p:nvPr/>
        </p:nvPicPr>
        <p:blipFill>
          <a:blip r:embed="rId1"/>
          <a:stretch/>
        </p:blipFill>
        <p:spPr>
          <a:xfrm>
            <a:off x="609480" y="1523880"/>
            <a:ext cx="3625920" cy="47944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4572000" y="1981080"/>
            <a:ext cx="358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ff"/>
                </a:solidFill>
                <a:latin typeface="Monotype Corsiva"/>
              </a:rPr>
              <a:t>(1840-1893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62673"/>
                </a:solidFill>
                <a:latin typeface="Monotype Corsiva"/>
              </a:rPr>
              <a:t>Шишкин И.И. «Зима»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91" name="Picture 2" descr="Картина Шишкина Зима. 1890 г"/>
          <p:cNvPicPr/>
          <p:nvPr/>
        </p:nvPicPr>
        <p:blipFill>
          <a:blip r:embed="rId1"/>
          <a:stretch/>
        </p:blipFill>
        <p:spPr>
          <a:xfrm>
            <a:off x="803160" y="1295280"/>
            <a:ext cx="7959960" cy="4876920"/>
          </a:xfrm>
          <a:prstGeom prst="rect">
            <a:avLst/>
          </a:prstGeom>
          <a:ln w="0">
            <a:noFill/>
          </a:ln>
        </p:spPr>
      </p:pic>
      <p:pic>
        <p:nvPicPr>
          <p:cNvPr id="92" name="времена года декабрь.mp3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62673"/>
                </a:solidFill>
                <a:latin typeface="Monotype Corsiva"/>
              </a:rPr>
              <a:t>Саврасов А.К.</a:t>
            </a:r>
            <a:br>
              <a:rPr sz="6000"/>
            </a:br>
            <a:r>
              <a:rPr b="0" lang="ru-RU" sz="6000" spc="-1" strike="noStrike">
                <a:solidFill>
                  <a:srgbClr val="262673"/>
                </a:solidFill>
                <a:latin typeface="Monotype Corsiva"/>
              </a:rPr>
              <a:t>«Зимний пейзаж»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94" name="Содержимое 3" descr="дорога"/>
          <p:cNvPicPr/>
          <p:nvPr/>
        </p:nvPicPr>
        <p:blipFill>
          <a:blip r:embed="rId1"/>
          <a:stretch/>
        </p:blipFill>
        <p:spPr>
          <a:xfrm>
            <a:off x="838080" y="1752480"/>
            <a:ext cx="7696440" cy="4754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73"/>
                </a:solidFill>
                <a:latin typeface="Monotype Corsiva"/>
              </a:rPr>
              <a:t>Бродский  И. «Зима»</a:t>
            </a:r>
            <a:endParaRPr b="0" lang="en-US" sz="54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96" name="Содержимое 3" descr=" (690x466, 74Kb)"/>
          <p:cNvPicPr/>
          <p:nvPr/>
        </p:nvPicPr>
        <p:blipFill>
          <a:blip r:embed="rId1"/>
          <a:stretch/>
        </p:blipFill>
        <p:spPr>
          <a:xfrm>
            <a:off x="990720" y="137160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259092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62673"/>
                </a:solidFill>
                <a:latin typeface="Monotype Corsiva"/>
              </a:rPr>
              <a:t>Гермашев М.М. «Зима в лесу»</a:t>
            </a:r>
            <a:endParaRPr b="0" lang="en-US" sz="48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98" name="Содержимое 3" descr="Гермашев М.М. Зима в лесу (513x600, 178Kb)"/>
          <p:cNvPicPr/>
          <p:nvPr/>
        </p:nvPicPr>
        <p:blipFill>
          <a:blip r:embed="rId1"/>
          <a:stretch/>
        </p:blipFill>
        <p:spPr>
          <a:xfrm>
            <a:off x="2819520" y="380880"/>
            <a:ext cx="6049800" cy="60962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62673"/>
                </a:solidFill>
                <a:latin typeface="Monotype Corsiva"/>
              </a:rPr>
              <a:t>Гермашев М.М. «Лиловый снег»</a:t>
            </a:r>
            <a:endParaRPr b="0" lang="en-US" sz="48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100" name="Содержимое 3" descr="Гермашев М.М. Лиловый снег (700x586, 218Kb)"/>
          <p:cNvPicPr/>
          <p:nvPr/>
        </p:nvPicPr>
        <p:blipFill>
          <a:blip r:embed="rId1"/>
          <a:stretch/>
        </p:blipFill>
        <p:spPr>
          <a:xfrm>
            <a:off x="1143000" y="121932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62673"/>
                </a:solidFill>
                <a:latin typeface="Monotype Corsiva"/>
              </a:rPr>
              <a:t>Васнецов А.М. «Зимний сон»</a:t>
            </a:r>
            <a:endParaRPr b="0" lang="en-US" sz="48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102" name="Содержимое 3" descr="Васнецов А.М. Зимний сон (Зима). 1908-1914 (700x495, 305Kb)"/>
          <p:cNvPicPr/>
          <p:nvPr/>
        </p:nvPicPr>
        <p:blipFill>
          <a:blip r:embed="rId1"/>
          <a:stretch/>
        </p:blipFill>
        <p:spPr>
          <a:xfrm>
            <a:off x="1143000" y="1143000"/>
            <a:ext cx="7162920" cy="5364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Администратор</cp:lastModifiedBy>
  <dcterms:modified xsi:type="dcterms:W3CDTF">2015-12-01T16:09:28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