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DED-49FE-4699-9765-DCBF23DD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410-E2B0-462C-9EDE-5C44D9A3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357-176F-462B-B99D-1C7AD551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34A-1625-4FD0-9E7F-0D3A1268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493A-98F8-4EAA-8F66-DF335B06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321E-75B7-40AC-9A75-E9F274AC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5A4C-D4AD-4B33-B922-7C8623C1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0A88-1C24-4ACB-A0A1-A68BF192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F6FD-4681-4137-ABEE-2F6B95A2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E4A1-3E7C-4765-881B-644EF0AC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B4C8-AA96-431D-9A65-C3F88B4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E91-33F0-494B-A5A9-C357D412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243F-C3FB-4BF8-AC9C-7DC1CD05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CB97-0EED-4A14-ADC4-6F92408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D82D-2639-48DC-8218-1060557F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1C84-AB63-4931-A30B-1664D773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2A87-E016-428A-B563-F8287FA0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012-CCD0-47E1-82DE-94F8A3CC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7AB-EF68-4132-88DF-B6A9AB2B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1EC-8D85-4D67-BA1F-B8230167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A9B-89D0-4A08-8C82-15A7FCA4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450-3008-41B1-A89B-CB0B4C41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839-7B91-48C6-AD1D-D891799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E67-6A19-450E-8C0C-727036A6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F572-7878-474E-A326-7B646EF32C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ED84-8FBF-4ABD-9F36-F43CD78808D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808056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Пераўтварэнне выразаў, якія змяшчаюць квадратныя карані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Подзаголовок 2" descr=""/>
          <p:cNvPicPr/>
          <p:nvPr/>
        </p:nvPicPr>
        <p:blipFill>
          <a:blip r:embed="rId1"/>
          <a:stretch/>
        </p:blipFill>
        <p:spPr>
          <a:xfrm>
            <a:off x="1365120" y="469800"/>
            <a:ext cx="6413760" cy="58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2060"/>
                </a:solidFill>
                <a:latin typeface="Tahoma"/>
              </a:rPr>
              <a:t>Рашыце рэбу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Объект 2" descr=""/>
          <p:cNvPicPr/>
          <p:nvPr/>
        </p:nvPicPr>
        <p:blipFill>
          <a:blip r:embed="rId1"/>
          <a:stretch/>
        </p:blipFill>
        <p:spPr>
          <a:xfrm>
            <a:off x="1133640" y="2011320"/>
            <a:ext cx="782784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79440" y="620640"/>
            <a:ext cx="87645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333399"/>
                </a:solidFill>
                <a:latin typeface="Arial"/>
                <a:ea typeface="Arial"/>
              </a:rPr>
              <a:t>Дзень квадратнага кораня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8664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  <a:ea typeface="Arial"/>
              </a:rPr>
              <a:t>03.03.09 ёсць нішто іншае на матэматычнай мове, як: «тры = квадратны корань з дзевяці». Напэўна гэты дзень варта адзначыць чым-небудзь асаблівым! Дарэчы сказаць, падобных дзён на кожнае стагоддзе прыходзіцца па дзевяць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зень квадратнага кораня быў 02.02.04, 04.04.16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наступны будзе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  <a:ea typeface="Arial"/>
              </a:rPr>
              <a:t>05.05.25.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333399"/>
                </a:solidFill>
                <a:latin typeface="Tahoma"/>
              </a:rPr>
              <a:t>Рэфлексі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6310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Ці задаволеныя вы сваёй працай на занятк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кончыце </a:t>
            </a:r>
            <a:r>
              <a:rPr b="1" lang="be-BY" sz="3200" spc="-1" strike="noStrike">
                <a:solidFill>
                  <a:srgbClr val="000000"/>
                </a:solidFill>
                <a:latin typeface="Tahoma"/>
              </a:rPr>
              <a:t>сказ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ёння на занятку я зразумеў, што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5"/>
          <p:cNvSpPr txBox="1"/>
          <p:nvPr/>
        </p:nvSpPr>
        <p:spPr>
          <a:xfrm>
            <a:off x="468360" y="1773360"/>
            <a:ext cx="77040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Не для школы, </a:t>
            </a:r>
            <a:endParaRPr b="1" i="1" lang="en-US" sz="32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 для жыцця вучымся!"</a:t>
            </a:r>
            <a:endParaRPr b="1" i="1" lang="en-US" sz="32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Дзякуй за працу!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1a4e"/>
                </a:solidFill>
                <a:latin typeface="Tahoma"/>
              </a:rPr>
              <a:t>   </a:t>
            </a:r>
            <a:r>
              <a:rPr b="1" i="1" lang="ru-RU" sz="3600" spc="-1" strike="noStrike">
                <a:solidFill>
                  <a:srgbClr val="601a4e"/>
                </a:solidFill>
                <a:latin typeface="Times New Roman"/>
              </a:rPr>
              <a:t>Тры  шляхі  вядуць  да ведаў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1a4e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шлях   разважання  </a:t>
            </a:r>
            <a:r>
              <a:rPr b="1" i="1" lang="ru-RU" sz="3600" spc="-1" strike="noStrike">
                <a:solidFill>
                  <a:srgbClr val="601a4e"/>
                </a:solidFill>
                <a:latin typeface="Times New Roman"/>
              </a:rPr>
              <a:t>-  гэта  шлях самы  высакародны,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1a4e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шлях   пераймання </a:t>
            </a:r>
            <a:r>
              <a:rPr b="1" i="1" lang="ru-RU" sz="3600" spc="-1" strike="noStrike">
                <a:solidFill>
                  <a:srgbClr val="601a4e"/>
                </a:solidFill>
                <a:latin typeface="Times New Roman"/>
              </a:rPr>
              <a:t>-  гэта  шлях  самы   лёгкі,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1a4e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шлях  вопыта</a:t>
            </a:r>
            <a:r>
              <a:rPr b="1" i="1" lang="be-BY" sz="3600" spc="-1" strike="noStrike">
                <a:solidFill>
                  <a:srgbClr val="ff0000"/>
                </a:solidFill>
                <a:latin typeface="Times New Roman"/>
              </a:rPr>
              <a:t>ў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01a4e"/>
                </a:solidFill>
                <a:latin typeface="Times New Roman"/>
              </a:rPr>
              <a:t>-  гэта  шлях  самы   складан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1a4e"/>
                </a:solidFill>
                <a:latin typeface="Times New Roman"/>
              </a:rPr>
              <a:t>                                                </a:t>
            </a:r>
            <a:r>
              <a:rPr b="1" i="1" lang="ru-RU" sz="3600" spc="-1" strike="noStrike">
                <a:solidFill>
                  <a:srgbClr val="601a4e"/>
                </a:solidFill>
                <a:latin typeface="Times New Roman"/>
              </a:rPr>
              <a:t>Канфуц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ag00020_"/>
          <p:cNvPicPr/>
          <p:nvPr/>
        </p:nvPicPr>
        <p:blipFill>
          <a:blip r:embed="rId1"/>
          <a:stretch/>
        </p:blipFill>
        <p:spPr>
          <a:xfrm>
            <a:off x="468360" y="4365720"/>
            <a:ext cx="3200400" cy="23050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3714840" y="614376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69897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Назав</a:t>
            </a:r>
            <a:r>
              <a:rPr b="0" lang="be-BY" sz="3600" spc="-1" strike="noStrike">
                <a:solidFill>
                  <a:srgbClr val="002060"/>
                </a:solidFill>
                <a:latin typeface="Arial Black"/>
              </a:rPr>
              <a:t>іце лікі, з якіх нельга знайсці квадратны корань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 Black"/>
              </a:rPr>
              <a:t>0,81;    -16;    0;   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5"/>
              <p:cNvSpPr txBox="1"/>
              <p:nvPr/>
            </p:nvSpPr>
            <p:spPr>
              <a:xfrm>
                <a:off x="6993000" y="29005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003640" y="3373560"/>
                <a:ext cx="289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1990800" y="2349360"/>
                <a:ext cx="371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38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4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7"/>
              <p:cNvSpPr txBox="1"/>
              <p:nvPr/>
            </p:nvSpPr>
            <p:spPr>
              <a:xfrm>
                <a:off x="5564160" y="479124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2060"/>
                </a:solidFill>
                <a:latin typeface="Tahoma"/>
              </a:rPr>
              <a:t>Пры якіх значэннях </a:t>
            </a:r>
            <a:r>
              <a:rPr b="0" lang="be-BY" sz="4400" spc="-1" strike="noStrike">
                <a:solidFill>
                  <a:srgbClr val="c00000"/>
                </a:solidFill>
                <a:latin typeface="Tahoma"/>
              </a:rPr>
              <a:t>а </a:t>
            </a:r>
            <a:r>
              <a:rPr b="0" lang="be-BY" sz="4400" spc="-1" strike="noStrike">
                <a:solidFill>
                  <a:srgbClr val="002060"/>
                </a:solidFill>
                <a:latin typeface="Tahoma"/>
              </a:rPr>
              <a:t>выразы маюць сэн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3213000" y="1969920"/>
                <a:ext cx="574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11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2484360" y="2565360"/>
                <a:ext cx="264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4" name="Rectangle 1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8"/>
              <p:cNvSpPr txBox="1"/>
              <p:nvPr/>
            </p:nvSpPr>
            <p:spPr>
              <a:xfrm>
                <a:off x="2627280" y="3500280"/>
                <a:ext cx="1793880" cy="28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6" name="Rectangle 23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347760" y="828720"/>
            <a:ext cx="8551800" cy="52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Object 45"/>
              <p:cNvSpPr txBox="1"/>
              <p:nvPr/>
            </p:nvSpPr>
            <p:spPr>
              <a:xfrm>
                <a:off x="6993000" y="29005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7"/>
              <p:cNvSpPr txBox="1"/>
              <p:nvPr/>
            </p:nvSpPr>
            <p:spPr>
              <a:xfrm>
                <a:off x="5003640" y="3373560"/>
                <a:ext cx="289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1990800" y="2349360"/>
                <a:ext cx="371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расціце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971640" y="1773360"/>
                <a:ext cx="50576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Rectangle 11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4"/>
              <p:cNvSpPr txBox="1"/>
              <p:nvPr/>
            </p:nvSpPr>
            <p:spPr>
              <a:xfrm>
                <a:off x="446040" y="3021120"/>
                <a:ext cx="804708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7" name="Rectangle 1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8"/>
              <p:cNvSpPr txBox="1"/>
              <p:nvPr/>
            </p:nvSpPr>
            <p:spPr>
              <a:xfrm>
                <a:off x="2195640" y="4221000"/>
                <a:ext cx="367164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23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3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карыстоўваючы азначэння квадратнага кораня, рашыце ўраўненн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3848040" y="1960560"/>
                <a:ext cx="430236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3276720" y="4292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3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тлумачце, чаму  ўраўненне не мае каранёў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503280" y="3265560"/>
                <a:ext cx="7254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3276720" y="4292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" y="404280"/>
            <a:ext cx="8693280" cy="49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be-BY" sz="6000" spc="-1" strike="noStrike">
                <a:solidFill>
                  <a:srgbClr val="333399"/>
                </a:solidFill>
                <a:latin typeface="Arial"/>
                <a:ea typeface="Arial"/>
              </a:rPr>
              <a:t>Фізкультхвілінка</a:t>
            </a:r>
            <a:br>
              <a:rPr sz="6000"/>
            </a:br>
            <a:r>
              <a:rPr b="1" lang="be-BY" sz="4000" spc="-1" strike="noStrike">
                <a:solidFill>
                  <a:srgbClr val="c00000"/>
                </a:solidFill>
                <a:latin typeface="Arial"/>
                <a:ea typeface="Arial"/>
              </a:rPr>
              <a:t>Калі выказванне праўдзівае, то рукі ўгору,  калі непраўдзівае –прысядзь, а калі сумняваешся –  пляскай у далоні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15:56:46Z</dcterms:created>
  <dc:creator>Администратор</dc:creator>
  <dc:description/>
  <dc:language>en-US</dc:language>
  <cp:lastModifiedBy>Елена</cp:lastModifiedBy>
  <dcterms:modified xsi:type="dcterms:W3CDTF">2002-01-01T00:34:38Z</dcterms:modified>
  <cp:revision>32</cp:revision>
  <dc:subject/>
  <dc:title>Преобразование выражений, содержащих квадратные корни.</dc:title>
</cp:coreProperties>
</file>