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png" ContentType="image/png"/>
  <Override PartName="/ppt/media/image31.gif" ContentType="image/gif"/>
  <Override PartName="/ppt/media/image23.gif" ContentType="image/gif"/>
  <Override PartName="/ppt/media/image16.png" ContentType="image/pn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4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27.png" ContentType="image/png"/>
  <Override PartName="/ppt/media/image34.gif" ContentType="image/gif"/>
  <Override PartName="/ppt/media/image9.gif" ContentType="image/gif"/>
  <Override PartName="/ppt/media/image5.gif" ContentType="image/gif"/>
  <Override PartName="/ppt/media/image35.gif" ContentType="image/gif"/>
  <Override PartName="/ppt/media/image13.png" ContentType="image/png"/>
  <Override PartName="/ppt/media/image33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2.gif" ContentType="image/gi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BD1-670C-4B37-9F35-D8009AF1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125-710F-44CF-94A8-3972A883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5A6-412F-40F2-86C6-144ED2C8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208-EBBA-4FF9-BFCD-09B0909B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5F7-4C60-4089-8022-E6B7FFD6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AD2-146C-4BAF-8442-8A68C0B5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4EA-56BA-4889-8461-A27D3310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B5A-D332-4753-93C5-909CD159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A4F-EF8A-4D1B-AE00-4D0346D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F0E-8B82-409F-B4F0-5E4D029C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52D-0564-4A5B-AE38-4318588A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176-1274-4656-A1DE-74BD5D4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834-D8F3-4AB9-9E3F-6560A2BEC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3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080" y="20001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Ы</a:t>
            </a:r>
            <a:r>
              <a:rPr b="1" lang="be-BY" sz="4000" spc="-1" strike="noStrike">
                <a:solidFill>
                  <a:srgbClr val="002060"/>
                </a:solidFill>
                <a:latin typeface="Calibri"/>
              </a:rPr>
              <a:t>НЯСЕННЕ АГУЛЬНАГА МНОЖНІКА ЗА ДУЖКІ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7 кл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:\Documents and Settings\loris.MYCOMP\Мои документы\school_07.gif"/>
          <p:cNvPicPr/>
          <p:nvPr/>
        </p:nvPicPr>
        <p:blipFill>
          <a:blip r:embed="rId1"/>
          <a:stretch/>
        </p:blipFill>
        <p:spPr>
          <a:xfrm>
            <a:off x="6429240" y="4286160"/>
            <a:ext cx="1657440" cy="18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uchitmatematika.ucoz.ru/_tbkp/124445656.jpg"/>
          <p:cNvPicPr/>
          <p:nvPr/>
        </p:nvPicPr>
        <p:blipFill>
          <a:blip r:embed="rId2"/>
          <a:stretch/>
        </p:blipFill>
        <p:spPr>
          <a:xfrm>
            <a:off x="3143160" y="571680"/>
            <a:ext cx="2000520" cy="79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428760" y="765000"/>
            <a:ext cx="839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й рэ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11" descr="ребус 14"/>
          <p:cNvPicPr/>
          <p:nvPr/>
        </p:nvPicPr>
        <p:blipFill>
          <a:blip r:embed="rId1"/>
          <a:stretch/>
        </p:blipFill>
        <p:spPr>
          <a:xfrm>
            <a:off x="826920" y="1484280"/>
            <a:ext cx="7337520" cy="41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57024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д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№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5.11,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be-BY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5.17 (ц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Індывідуальнае задан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1800" spc="-1" strike="noStrike">
                <a:solidFill>
                  <a:srgbClr val="000000"/>
                </a:solidFill>
                <a:latin typeface="Calibri"/>
              </a:rPr>
              <a:t>Паказаць графічную мадэль да задачы. Скласці пытанні да задачы. Скласці тэкставую мадэль да задачы і рашыць я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alibri"/>
              </a:rPr>
              <a:t>З двух гарадоў, адлегласць паміж якімі 400км, выехалі адначасова насустрач адзін аднаму два аўтобус і сустрэліся праз 4 г. Знайдзіце скорасць кожнага аўтобуса, калі скорасць першага болей скорасці другога на 10 км/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C:\Documents and Settings\loris.MYCOMP\Мои документы\135.gif"/>
          <p:cNvPicPr/>
          <p:nvPr/>
        </p:nvPicPr>
        <p:blipFill>
          <a:blip r:embed="rId1"/>
          <a:stretch/>
        </p:blipFill>
        <p:spPr>
          <a:xfrm>
            <a:off x="3214800" y="457200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7"/>
          <p:cNvSpPr/>
          <p:nvPr/>
        </p:nvSpPr>
        <p:spPr>
          <a:xfrm>
            <a:off x="1979640" y="200016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спехаў у вучоб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70c0"/>
                </a:solidFill>
                <a:latin typeface="Calibri"/>
              </a:rPr>
              <a:t>Дзякуй за прац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C:\Documents and Settings\loris.MYCOMP\Мои документы\Мои рисунки\fruit_04.gif"/>
          <p:cNvPicPr/>
          <p:nvPr/>
        </p:nvPicPr>
        <p:blipFill>
          <a:blip r:embed="rId1"/>
          <a:stretch/>
        </p:blipFill>
        <p:spPr>
          <a:xfrm>
            <a:off x="0" y="3571920"/>
            <a:ext cx="2428920" cy="247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loris.MYCOMP\Мои документы\Мои рисунки\fruit_06.gif"/>
          <p:cNvPicPr/>
          <p:nvPr/>
        </p:nvPicPr>
        <p:blipFill>
          <a:blip r:embed="rId2"/>
          <a:stretch/>
        </p:blipFill>
        <p:spPr>
          <a:xfrm>
            <a:off x="6429240" y="3786120"/>
            <a:ext cx="2524320" cy="24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000" y="1413000"/>
            <a:ext cx="7972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Любімая лічб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Вазьміце, калі ласка, ручкі і запішыце сваю любімую лічбу. Памножце гэтую лічбу на 9. Атрыманы лік памножце на 12345679. Калі вы ўсё зрабілі правільна, то ў вас атрымаецца букет з вашых любімых лічбаў. Гэты букет я дару вам ад нашага класа. А цяпер дапішы справа да атрыманага ліку 9 нулёў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14240" y="500040"/>
            <a:ext cx="78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2060"/>
                </a:solidFill>
                <a:latin typeface="Calibri"/>
              </a:rPr>
              <a:t>Дадатковае задан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571320"/>
            <a:ext cx="85690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ЕРКА ДАМАШНЯГА ЗАДАНН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Documents and Settings\loris.MYCOMP\Мои документы\Мои рисунки\MSOfficePNG(8).PNG"/>
          <p:cNvPicPr/>
          <p:nvPr/>
        </p:nvPicPr>
        <p:blipFill>
          <a:blip r:embed="rId1"/>
          <a:stretch/>
        </p:blipFill>
        <p:spPr>
          <a:xfrm>
            <a:off x="1143000" y="4714920"/>
            <a:ext cx="1762200" cy="163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loris.MYCOMP\Мои документы\science12.gif"/>
          <p:cNvPicPr/>
          <p:nvPr/>
        </p:nvPicPr>
        <p:blipFill>
          <a:blip r:embed="rId2"/>
          <a:stretch/>
        </p:blipFill>
        <p:spPr>
          <a:xfrm>
            <a:off x="6786720" y="5000760"/>
            <a:ext cx="1785960" cy="123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loris.MYCOMP\Мои документы\Мои рисунки\MSOfficePNG(8).PNG"/>
          <p:cNvPicPr/>
          <p:nvPr/>
        </p:nvPicPr>
        <p:blipFill>
          <a:blip r:embed="rId3"/>
          <a:stretch/>
        </p:blipFill>
        <p:spPr>
          <a:xfrm>
            <a:off x="1143000" y="4714920"/>
            <a:ext cx="1762200" cy="1638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loris.MYCOMP\Мои документы\Мои рисунки\MSOfficePNG(8).PNG"/>
          <p:cNvPicPr/>
          <p:nvPr/>
        </p:nvPicPr>
        <p:blipFill>
          <a:blip r:embed="rId4"/>
          <a:stretch/>
        </p:blipFill>
        <p:spPr>
          <a:xfrm>
            <a:off x="1143000" y="4714920"/>
            <a:ext cx="1762200" cy="163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250920" y="33336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57160" y="57168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10253f"/>
                </a:solidFill>
                <a:latin typeface="Arial Black"/>
              </a:rPr>
              <a:t>№ </a:t>
            </a:r>
            <a:r>
              <a:rPr b="1" lang="be-BY" sz="4000" spc="-1" strike="noStrike">
                <a:solidFill>
                  <a:srgbClr val="10253f"/>
                </a:solidFill>
                <a:latin typeface="Arial Black"/>
              </a:rPr>
              <a:t>5.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42960" y="1268280"/>
            <a:ext cx="76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(q-c); 2)b(c-m); 3)e(b-c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)m(k-p); 5)5y(5x+3); 6)9b(a+2c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)6(x-y); 8)-12n(m+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Управляющая кнопка: далее 11"/>
          <p:cNvGrpSpPr/>
          <p:nvPr/>
        </p:nvGrpSpPr>
        <p:grpSpPr>
          <a:xfrm>
            <a:off x="7516800" y="5467320"/>
            <a:ext cx="1150920" cy="1152720"/>
            <a:chOff x="7516800" y="5467320"/>
            <a:chExt cx="1150920" cy="1152720"/>
          </a:xfrm>
        </p:grpSpPr>
        <p:pic>
          <p:nvPicPr>
            <p:cNvPr id="53" name="Управляющая кнопка: далее 1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516800" y="5467320"/>
              <a:ext cx="11509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5500800"/>
              <a:ext cx="10432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1143000" y="500040"/>
            <a:ext cx="6143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39640" y="234936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2300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189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)2800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)499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)24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Управляющая кнопка: далее 12"/>
          <p:cNvGrpSpPr/>
          <p:nvPr/>
        </p:nvGrpSpPr>
        <p:grpSpPr>
          <a:xfrm>
            <a:off x="7729560" y="5327640"/>
            <a:ext cx="1152360" cy="1152360"/>
            <a:chOff x="7729560" y="5327640"/>
            <a:chExt cx="1152360" cy="1152360"/>
          </a:xfrm>
        </p:grpSpPr>
        <p:pic>
          <p:nvPicPr>
            <p:cNvPr id="58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29560" y="5327640"/>
              <a:ext cx="1152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786800" y="5357880"/>
              <a:ext cx="104292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Фізкультм</a:t>
            </a:r>
            <a:r>
              <a:rPr b="1" lang="be-BY" sz="4400" spc="-1" strike="noStrike">
                <a:solidFill>
                  <a:srgbClr val="0070c0"/>
                </a:solidFill>
                <a:latin typeface="Calibri"/>
              </a:rPr>
              <a:t>і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1427040"/>
            <a:ext cx="8283600" cy="641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loris.MYCOMP\Мои документы\emocii-2239.gif"/>
          <p:cNvPicPr/>
          <p:nvPr/>
        </p:nvPicPr>
        <p:blipFill>
          <a:blip r:embed="rId2"/>
          <a:stretch/>
        </p:blipFill>
        <p:spPr>
          <a:xfrm>
            <a:off x="7215120" y="514368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AutoShape 4"/>
          <p:cNvGrpSpPr/>
          <p:nvPr/>
        </p:nvGrpSpPr>
        <p:grpSpPr>
          <a:xfrm>
            <a:off x="1517760" y="231840"/>
            <a:ext cx="5773680" cy="853920"/>
            <a:chOff x="1517760" y="231840"/>
            <a:chExt cx="5773680" cy="853920"/>
          </a:xfrm>
        </p:grpSpPr>
        <p:pic>
          <p:nvPicPr>
            <p:cNvPr id="64" name="AutoShape 4" descr=""/>
            <p:cNvPicPr/>
            <p:nvPr/>
          </p:nvPicPr>
          <p:blipFill>
            <a:blip r:embed="rId1"/>
            <a:stretch/>
          </p:blipFill>
          <p:spPr>
            <a:xfrm>
              <a:off x="1517760" y="231840"/>
              <a:ext cx="57736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600200" y="314280"/>
              <a:ext cx="56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2800" spc="-1" strike="noStrike">
                  <a:solidFill>
                    <a:srgbClr val="ccecff"/>
                  </a:solidFill>
                  <a:latin typeface="Calibri"/>
                </a:rPr>
                <a:t>Матэматычная дыктоўка</a:t>
              </a:r>
              <a:r>
                <a:rPr b="1" lang="ru-RU" sz="2800" spc="-1" strike="noStrike">
                  <a:solidFill>
                    <a:srgbClr val="ccecff"/>
                  </a:solidFill>
                  <a:latin typeface="Calibri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AutoShape 68"/>
          <p:cNvGrpSpPr/>
          <p:nvPr/>
        </p:nvGrpSpPr>
        <p:grpSpPr>
          <a:xfrm>
            <a:off x="158760" y="950760"/>
            <a:ext cx="4516560" cy="1116000"/>
            <a:chOff x="158760" y="950760"/>
            <a:chExt cx="4516560" cy="1116000"/>
          </a:xfrm>
        </p:grpSpPr>
        <p:pic>
          <p:nvPicPr>
            <p:cNvPr id="67" name="AutoShape 68" descr=""/>
            <p:cNvPicPr/>
            <p:nvPr/>
          </p:nvPicPr>
          <p:blipFill>
            <a:blip r:embed="rId2"/>
            <a:stretch/>
          </p:blipFill>
          <p:spPr>
            <a:xfrm>
              <a:off x="158760" y="950760"/>
              <a:ext cx="4516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5200" y="1025640"/>
              <a:ext cx="417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ынясіце агульны множнік за дужкі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AutoShape 70"/>
          <p:cNvGrpSpPr/>
          <p:nvPr/>
        </p:nvGrpSpPr>
        <p:grpSpPr>
          <a:xfrm>
            <a:off x="5162400" y="1212840"/>
            <a:ext cx="3713400" cy="749160"/>
            <a:chOff x="5162400" y="1212840"/>
            <a:chExt cx="3713400" cy="749160"/>
          </a:xfrm>
        </p:grpSpPr>
        <p:pic>
          <p:nvPicPr>
            <p:cNvPr id="70" name="AutoShape 70" descr=""/>
            <p:cNvPicPr/>
            <p:nvPr/>
          </p:nvPicPr>
          <p:blipFill>
            <a:blip r:embed="rId3"/>
            <a:stretch/>
          </p:blipFill>
          <p:spPr>
            <a:xfrm>
              <a:off x="5162400" y="1212840"/>
              <a:ext cx="3713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245200" y="1293840"/>
              <a:ext cx="35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ecff"/>
                  </a:solidFill>
                  <a:latin typeface="Calibri"/>
                </a:rPr>
                <a:t>Правер  сябе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72"/>
          <p:cNvGrpSpPr/>
          <p:nvPr/>
        </p:nvGrpSpPr>
        <p:grpSpPr>
          <a:xfrm>
            <a:off x="1979640" y="2205000"/>
            <a:ext cx="4176720" cy="560520"/>
            <a:chOff x="1979640" y="2205000"/>
            <a:chExt cx="4176720" cy="560520"/>
          </a:xfrm>
        </p:grpSpPr>
        <p:grpSp>
          <p:nvGrpSpPr>
            <p:cNvPr id="73" name="AutoShape 69"/>
            <p:cNvGrpSpPr/>
            <p:nvPr/>
          </p:nvGrpSpPr>
          <p:grpSpPr>
            <a:xfrm>
              <a:off x="1979640" y="2205000"/>
              <a:ext cx="817920" cy="523800"/>
              <a:chOff x="1979640" y="2205000"/>
              <a:chExt cx="817920" cy="523800"/>
            </a:xfrm>
          </p:grpSpPr>
          <p:pic>
            <p:nvPicPr>
              <p:cNvPr id="74" name="AutoShap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79640" y="2205000"/>
                <a:ext cx="817920" cy="5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2056680" y="2259360"/>
                <a:ext cx="66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1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Text Box 71"/>
            <p:cNvSpPr/>
            <p:nvPr/>
          </p:nvSpPr>
          <p:spPr>
            <a:xfrm>
              <a:off x="2814840" y="2244960"/>
              <a:ext cx="334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Times New Roman"/>
                </a:rPr>
                <a:t>20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 + 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73"/>
          <p:cNvGrpSpPr/>
          <p:nvPr/>
        </p:nvGrpSpPr>
        <p:grpSpPr>
          <a:xfrm>
            <a:off x="1979640" y="3114720"/>
            <a:ext cx="4176720" cy="561960"/>
            <a:chOff x="1979640" y="3114720"/>
            <a:chExt cx="4176720" cy="561960"/>
          </a:xfrm>
        </p:grpSpPr>
        <p:grpSp>
          <p:nvGrpSpPr>
            <p:cNvPr id="78" name="AutoShape 74"/>
            <p:cNvGrpSpPr/>
            <p:nvPr/>
          </p:nvGrpSpPr>
          <p:grpSpPr>
            <a:xfrm>
              <a:off x="1979640" y="3114720"/>
              <a:ext cx="817920" cy="536400"/>
              <a:chOff x="1979640" y="3114720"/>
              <a:chExt cx="817920" cy="536400"/>
            </a:xfrm>
          </p:grpSpPr>
          <p:pic>
            <p:nvPicPr>
              <p:cNvPr id="79" name="AutoShape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9640" y="3114720"/>
                <a:ext cx="81792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2057760" y="3171960"/>
                <a:ext cx="65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ecff"/>
                    </a:solidFill>
                    <a:latin typeface="Calibri"/>
                  </a:rPr>
                  <a:t>2</a:t>
                </a:r>
                <a:r>
                  <a:rPr b="1" lang="ru-RU" sz="2400" spc="-1" strike="noStrike">
                    <a:solidFill>
                      <a:srgbClr val="ccecff"/>
                    </a:solidFill>
                    <a:latin typeface="Calibri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Text Box 75"/>
            <p:cNvSpPr/>
            <p:nvPr/>
          </p:nvSpPr>
          <p:spPr>
            <a:xfrm>
              <a:off x="2814840" y="3156120"/>
              <a:ext cx="334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39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x 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 3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76"/>
          <p:cNvGrpSpPr/>
          <p:nvPr/>
        </p:nvGrpSpPr>
        <p:grpSpPr>
          <a:xfrm>
            <a:off x="1979640" y="4024440"/>
            <a:ext cx="4176720" cy="559080"/>
            <a:chOff x="1979640" y="4024440"/>
            <a:chExt cx="4176720" cy="559080"/>
          </a:xfrm>
        </p:grpSpPr>
        <p:grpSp>
          <p:nvGrpSpPr>
            <p:cNvPr id="83" name="AutoShape 77"/>
            <p:cNvGrpSpPr/>
            <p:nvPr/>
          </p:nvGrpSpPr>
          <p:grpSpPr>
            <a:xfrm>
              <a:off x="1979640" y="4024440"/>
              <a:ext cx="817920" cy="536400"/>
              <a:chOff x="1979640" y="4024440"/>
              <a:chExt cx="817920" cy="536400"/>
            </a:xfrm>
          </p:grpSpPr>
          <p:pic>
            <p:nvPicPr>
              <p:cNvPr id="84" name="AutoShape 7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79640" y="4024440"/>
                <a:ext cx="81792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057760" y="4078440"/>
                <a:ext cx="65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ecff"/>
                    </a:solidFill>
                    <a:latin typeface="Calibri"/>
                  </a:rPr>
                  <a:t>3</a:t>
                </a:r>
                <a:r>
                  <a:rPr b="1" lang="ru-RU" sz="2400" spc="-1" strike="noStrike">
                    <a:solidFill>
                      <a:srgbClr val="ccecff"/>
                    </a:solidFill>
                    <a:latin typeface="Calibri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Text Box 78"/>
            <p:cNvSpPr/>
            <p:nvPr/>
          </p:nvSpPr>
          <p:spPr>
            <a:xfrm>
              <a:off x="2814840" y="4062960"/>
              <a:ext cx="334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Times New Roman"/>
                </a:rPr>
                <a:t>18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a 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+ 6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b 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 12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79"/>
          <p:cNvGrpSpPr/>
          <p:nvPr/>
        </p:nvGrpSpPr>
        <p:grpSpPr>
          <a:xfrm>
            <a:off x="1979640" y="4933800"/>
            <a:ext cx="4176720" cy="560160"/>
            <a:chOff x="1979640" y="4933800"/>
            <a:chExt cx="4176720" cy="560160"/>
          </a:xfrm>
        </p:grpSpPr>
        <p:grpSp>
          <p:nvGrpSpPr>
            <p:cNvPr id="88" name="AutoShape 80"/>
            <p:cNvGrpSpPr/>
            <p:nvPr/>
          </p:nvGrpSpPr>
          <p:grpSpPr>
            <a:xfrm>
              <a:off x="1979640" y="4933800"/>
              <a:ext cx="817920" cy="536760"/>
              <a:chOff x="1979640" y="4933800"/>
              <a:chExt cx="817920" cy="536760"/>
            </a:xfrm>
          </p:grpSpPr>
          <p:pic>
            <p:nvPicPr>
              <p:cNvPr id="89" name="AutoShape 80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933800"/>
                <a:ext cx="817920" cy="53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2057760" y="4988880"/>
                <a:ext cx="65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ecff"/>
                    </a:solidFill>
                    <a:latin typeface="Calibri"/>
                  </a:rPr>
                  <a:t>4</a:t>
                </a:r>
                <a:r>
                  <a:rPr b="1" lang="ru-RU" sz="2400" spc="-1" strike="noStrike">
                    <a:solidFill>
                      <a:srgbClr val="ccecff"/>
                    </a:solidFill>
                    <a:latin typeface="Calibri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Text Box 81"/>
            <p:cNvSpPr/>
            <p:nvPr/>
          </p:nvSpPr>
          <p:spPr>
            <a:xfrm>
              <a:off x="2814840" y="4973400"/>
              <a:ext cx="334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70c0"/>
                  </a:solidFill>
                  <a:latin typeface="Times New Roman"/>
                </a:rPr>
                <a:t>15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d 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  25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k + 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82"/>
          <p:cNvGrpSpPr/>
          <p:nvPr/>
        </p:nvGrpSpPr>
        <p:grpSpPr>
          <a:xfrm>
            <a:off x="1979640" y="5845320"/>
            <a:ext cx="4176720" cy="562320"/>
            <a:chOff x="1979640" y="5845320"/>
            <a:chExt cx="4176720" cy="562320"/>
          </a:xfrm>
        </p:grpSpPr>
        <p:grpSp>
          <p:nvGrpSpPr>
            <p:cNvPr id="93" name="AutoShape 83"/>
            <p:cNvGrpSpPr/>
            <p:nvPr/>
          </p:nvGrpSpPr>
          <p:grpSpPr>
            <a:xfrm>
              <a:off x="1979640" y="5845320"/>
              <a:ext cx="817920" cy="536400"/>
              <a:chOff x="1979640" y="5845320"/>
              <a:chExt cx="817920" cy="536400"/>
            </a:xfrm>
          </p:grpSpPr>
          <p:pic>
            <p:nvPicPr>
              <p:cNvPr id="94" name="AutoShape 83" descr=""/>
              <p:cNvPicPr/>
              <p:nvPr/>
            </p:nvPicPr>
            <p:blipFill>
              <a:blip r:embed="rId8"/>
              <a:stretch/>
            </p:blipFill>
            <p:spPr>
              <a:xfrm>
                <a:off x="1979640" y="5845320"/>
                <a:ext cx="81792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2057760" y="5902560"/>
                <a:ext cx="65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ecff"/>
                    </a:solidFill>
                    <a:latin typeface="Calibri"/>
                  </a:rPr>
                  <a:t>5</a:t>
                </a:r>
                <a:r>
                  <a:rPr b="1" lang="ru-RU" sz="2400" spc="-1" strike="noStrike">
                    <a:solidFill>
                      <a:srgbClr val="ccecff"/>
                    </a:solidFill>
                    <a:latin typeface="Calibri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Text Box 84"/>
            <p:cNvSpPr/>
            <p:nvPr/>
          </p:nvSpPr>
          <p:spPr>
            <a:xfrm>
              <a:off x="2814840" y="5887080"/>
              <a:ext cx="334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33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p +</a:t>
              </a:r>
              <a:r>
                <a:rPr b="1" i="1" lang="ru-RU" sz="2800" spc="-1" strike="noStrike">
                  <a:solidFill>
                    <a:srgbClr val="0070c0"/>
                  </a:solidFill>
                  <a:latin typeface="Times New Roman"/>
                </a:rPr>
                <a:t>22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</a:rPr>
                <a:t>  11</a:t>
              </a:r>
              <a:r>
                <a:rPr b="1" i="1" lang="en-US" sz="2800" spc="-1" strike="noStrike">
                  <a:solidFill>
                    <a:srgbClr val="0070c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AutoShape 88"/>
          <p:cNvGrpSpPr/>
          <p:nvPr/>
        </p:nvGrpSpPr>
        <p:grpSpPr>
          <a:xfrm>
            <a:off x="5310360" y="2146320"/>
            <a:ext cx="1882440" cy="852480"/>
            <a:chOff x="5310360" y="2146320"/>
            <a:chExt cx="1882440" cy="852480"/>
          </a:xfrm>
        </p:grpSpPr>
        <p:pic>
          <p:nvPicPr>
            <p:cNvPr id="98" name="AutoShape 88" descr=""/>
            <p:cNvPicPr/>
            <p:nvPr/>
          </p:nvPicPr>
          <p:blipFill>
            <a:blip r:embed="rId9"/>
            <a:stretch/>
          </p:blipFill>
          <p:spPr>
            <a:xfrm>
              <a:off x="5310360" y="2146320"/>
              <a:ext cx="18824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392800" y="22334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5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(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4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n + k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AutoShape 89"/>
          <p:cNvGrpSpPr/>
          <p:nvPr/>
        </p:nvGrpSpPr>
        <p:grpSpPr>
          <a:xfrm>
            <a:off x="5310360" y="3054240"/>
            <a:ext cx="2138040" cy="852480"/>
            <a:chOff x="5310360" y="3054240"/>
            <a:chExt cx="2138040" cy="852480"/>
          </a:xfrm>
        </p:grpSpPr>
        <p:pic>
          <p:nvPicPr>
            <p:cNvPr id="101" name="AutoShape 89" descr=""/>
            <p:cNvPicPr/>
            <p:nvPr/>
          </p:nvPicPr>
          <p:blipFill>
            <a:blip r:embed="rId10"/>
            <a:stretch/>
          </p:blipFill>
          <p:spPr>
            <a:xfrm>
              <a:off x="5310360" y="3054240"/>
              <a:ext cx="21380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94240" y="3144960"/>
              <a:ext cx="19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3(13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x 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)</a:t>
              </a:r>
              <a:r>
                <a:rPr b="0" lang="en-US" sz="28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AutoShape 90"/>
          <p:cNvGrpSpPr/>
          <p:nvPr/>
        </p:nvGrpSpPr>
        <p:grpSpPr>
          <a:xfrm>
            <a:off x="5291280" y="3962520"/>
            <a:ext cx="2554200" cy="853920"/>
            <a:chOff x="5291280" y="3962520"/>
            <a:chExt cx="2554200" cy="853920"/>
          </a:xfrm>
        </p:grpSpPr>
        <p:pic>
          <p:nvPicPr>
            <p:cNvPr id="104" name="AutoShape 90" descr=""/>
            <p:cNvPicPr/>
            <p:nvPr/>
          </p:nvPicPr>
          <p:blipFill>
            <a:blip r:embed="rId11"/>
            <a:stretch/>
          </p:blipFill>
          <p:spPr>
            <a:xfrm>
              <a:off x="5291280" y="3962520"/>
              <a:ext cx="25542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92800" y="4052880"/>
              <a:ext cx="23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(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a + b 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 2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)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AutoShape 91"/>
          <p:cNvGrpSpPr/>
          <p:nvPr/>
        </p:nvGrpSpPr>
        <p:grpSpPr>
          <a:xfrm>
            <a:off x="5310360" y="4870440"/>
            <a:ext cx="2852640" cy="853920"/>
            <a:chOff x="5310360" y="4870440"/>
            <a:chExt cx="2852640" cy="853920"/>
          </a:xfrm>
        </p:grpSpPr>
        <p:pic>
          <p:nvPicPr>
            <p:cNvPr id="107" name="AutoShape 91" descr=""/>
            <p:cNvPicPr/>
            <p:nvPr/>
          </p:nvPicPr>
          <p:blipFill>
            <a:blip r:embed="rId12"/>
            <a:stretch/>
          </p:blipFill>
          <p:spPr>
            <a:xfrm>
              <a:off x="5310360" y="4870440"/>
              <a:ext cx="28526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392800" y="4962600"/>
              <a:ext cx="26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5(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 5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k + 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AutoShape 92"/>
          <p:cNvGrpSpPr/>
          <p:nvPr/>
        </p:nvGrpSpPr>
        <p:grpSpPr>
          <a:xfrm>
            <a:off x="5310360" y="5784840"/>
            <a:ext cx="3290760" cy="853920"/>
            <a:chOff x="5310360" y="5784840"/>
            <a:chExt cx="3290760" cy="853920"/>
          </a:xfrm>
        </p:grpSpPr>
        <p:pic>
          <p:nvPicPr>
            <p:cNvPr id="110" name="AutoShape 92" descr=""/>
            <p:cNvPicPr/>
            <p:nvPr/>
          </p:nvPicPr>
          <p:blipFill>
            <a:blip r:embed="rId13"/>
            <a:stretch/>
          </p:blipFill>
          <p:spPr>
            <a:xfrm>
              <a:off x="5310360" y="5784840"/>
              <a:ext cx="3290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392800" y="5873760"/>
              <a:ext cx="31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11(3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p + </a:t>
              </a:r>
              <a:r>
                <a:rPr b="1" i="1" lang="ru-RU" sz="2800" spc="-1" strike="noStrike">
                  <a:solidFill>
                    <a:srgbClr val="ccecff"/>
                  </a:solidFill>
                  <a:latin typeface="Times New Roman"/>
                </a:rPr>
                <a:t>2</a:t>
              </a:r>
              <a:r>
                <a:rPr b="1" lang="ru-RU" sz="2800" spc="-1" strike="noStrike">
                  <a:solidFill>
                    <a:srgbClr val="ccecff"/>
                  </a:solidFill>
                  <a:latin typeface="Times New Roman"/>
                </a:rPr>
                <a:t>–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ccecff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ccec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1000080" y="714240"/>
            <a:ext cx="71438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       </a:t>
            </a: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ЗАРАДКА ДЛЯ ВАЧЭ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важліва глядзі за рухам фігур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C:\Documents and Settings\loris.MYCOMP\Мои документы\jivotniea-3311.gif"/>
          <p:cNvPicPr/>
          <p:nvPr/>
        </p:nvPicPr>
        <p:blipFill>
          <a:blip r:embed="rId1"/>
          <a:stretch/>
        </p:blipFill>
        <p:spPr>
          <a:xfrm>
            <a:off x="6929280" y="5072040"/>
            <a:ext cx="1524240" cy="123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000080" y="4357800"/>
            <a:ext cx="2428920" cy="207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s17.rimg.info/e606b793004ca082c05d3e8d84ef5329.gif"/>
          <p:cNvPicPr/>
          <p:nvPr/>
        </p:nvPicPr>
        <p:blipFill>
          <a:blip r:embed="rId3"/>
          <a:stretch/>
        </p:blipFill>
        <p:spPr>
          <a:xfrm>
            <a:off x="3000240" y="1785960"/>
            <a:ext cx="2928960" cy="99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C:\Documents and Settings\loris.MYCOMP\Мои документы\pticia-827.gif"/>
          <p:cNvPicPr/>
          <p:nvPr/>
        </p:nvPicPr>
        <p:blipFill>
          <a:blip r:embed="rId1"/>
          <a:stretch/>
        </p:blipFill>
        <p:spPr>
          <a:xfrm>
            <a:off x="428760" y="4286160"/>
            <a:ext cx="2000160" cy="2262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loris.MYCOMP\Мои документы\jivotniea-3311.gif"/>
          <p:cNvPicPr/>
          <p:nvPr/>
        </p:nvPicPr>
        <p:blipFill>
          <a:blip r:embed="rId2"/>
          <a:stretch/>
        </p:blipFill>
        <p:spPr>
          <a:xfrm>
            <a:off x="4000680" y="5357880"/>
            <a:ext cx="1523880" cy="123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http://forumsmile.ru/u/1/f/e/1fe1856bff457e6e3995882879a53103.png"/>
          <p:cNvPicPr/>
          <p:nvPr/>
        </p:nvPicPr>
        <p:blipFill>
          <a:blip r:embed="rId3"/>
          <a:stretch/>
        </p:blipFill>
        <p:spPr>
          <a:xfrm>
            <a:off x="7286760" y="4643280"/>
            <a:ext cx="142848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1017 L 0.72396 -0.66698 E">
                                      <p:cBhvr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517 -0.30391 L -0.00955 -0.61197 L 0.35643 -0.30391 L -0.00955 0.00508 L -0.37517 -0.30391 Z">
                                      <p:cBhvr>
                                        <p:cTn id="93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0.00855 L -0.72448 -0.00208 E">
                                      <p:cBhvr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loris.MYCOMP\Мои документы\zvezdia-189.gif"/>
          <p:cNvPicPr/>
          <p:nvPr/>
        </p:nvPicPr>
        <p:blipFill>
          <a:blip r:embed="rId1"/>
          <a:stretch/>
        </p:blipFill>
        <p:spPr>
          <a:xfrm>
            <a:off x="357120" y="428760"/>
            <a:ext cx="1714680" cy="15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loris.MYCOMP\Мои документы\transporta-915.gif"/>
          <p:cNvPicPr/>
          <p:nvPr/>
        </p:nvPicPr>
        <p:blipFill>
          <a:blip r:embed="rId2"/>
          <a:stretch/>
        </p:blipFill>
        <p:spPr>
          <a:xfrm>
            <a:off x="857160" y="235728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loris.MYCOMP\Мои документы\jivotniea-602.gif"/>
          <p:cNvPicPr/>
          <p:nvPr/>
        </p:nvPicPr>
        <p:blipFill>
          <a:blip r:embed="rId3"/>
          <a:stretch/>
        </p:blipFill>
        <p:spPr>
          <a:xfrm>
            <a:off x="0" y="4572000"/>
            <a:ext cx="2500200" cy="1924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Documents and Settings\loris.MYCOMP\Мои документы\Мои рисунки\бабочка 2.gif"/>
          <p:cNvPicPr/>
          <p:nvPr/>
        </p:nvPicPr>
        <p:blipFill>
          <a:blip r:embed="rId4"/>
          <a:stretch/>
        </p:blipFill>
        <p:spPr>
          <a:xfrm>
            <a:off x="3357720" y="3071880"/>
            <a:ext cx="857160" cy="68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361 -0.00346 C -0.32361 0.11466 -0.23593 0.21221 -0.12899 0.21221 C -0.00259999999999999 0.21221 0.04288 0.10426 0.06216 0.03953 L 0.0816 -0.04646 C 0.10139 -0.11118 0.14983 -0.21775 0.29236 -0.21775 C 0.38368 -0.21775 0.4875 -0.12159 0.4875 -0.00346 C 0.4875 0.11466 0.38368 0.21221 0.29236 0.21221 C 0.14983 0.21221 0.10139 0.10426 0.0816 0.03953 L 0.06216 -0.04646 C 0.04288 -0.11118 -0.00259999999999999 -0.21775 -0.12899 -0.21775 C -0.23593 -0.21775 -0.32361 -0.12159 -0.32361 -0.00346 Z">
                                      <p:cBhvr>
                                        <p:cTn id="102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8.04252E-007 L 0.66302 -0.00254 E">
                                      <p:cBhvr>
                                        <p:cTn id="105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22 -0.25815 C -0.09722 -0.34088 -0.00729000000000001 -0.40837 0.1033 -0.40837 L 0.56788 -0.40837 C 0.67865 -0.40837 0.7691 -0.34088 0.7691 -0.25815 L 0.7691 0.08412 C 0.7691 0.16755 0.67865 0.23758 0.56788 0.23758 L 0.1033 0.23758 C -0.00729000000000001 0.23758 -0.09722 0.16755 -0.09722 0.08412 Z">
                                      <p:cBhvr>
                                        <p:cTn id="108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76198 -3.7037E-007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6:17:05Z</dcterms:created>
  <dc:creator>ViTark</dc:creator>
  <dc:description/>
  <dc:language>en-US</dc:language>
  <cp:lastModifiedBy>User</cp:lastModifiedBy>
  <dcterms:modified xsi:type="dcterms:W3CDTF">2017-01-16T18:34:53Z</dcterms:modified>
  <cp:revision>49</cp:revision>
  <dc:subject/>
  <dc:title>Презентация PowerPoint</dc:title>
</cp:coreProperties>
</file>