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B9D-2EB6-4D36-9727-F8AF0C20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A91-FD62-4593-9C2B-1FAD318E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6E043-84B6-4113-881F-189A0EC3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641CA-CE32-4BC6-A0C6-458B0FEC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46E5C-A230-46A3-BBE3-2E8B546D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BB546-9A39-437B-8157-A162EE7C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2B4F2-3F76-4990-82ED-7E0ED41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773BD-6361-45D4-8FC2-D98EB638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D73CE-8230-4428-A17C-E769599D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1869A-1DC1-4AF7-B90C-A8FB8007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E2799-866A-40B3-A1C2-EFD5FAB3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E0F0B-BD7A-46B7-B721-6098E3FA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48B-C9F3-4154-809C-C6C4FA71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C5C4E-4101-46FB-8135-7380317D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F0FED-4262-4164-8119-F41CDD57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25658-F25B-409D-B5B6-E30C1F14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DCAED-FD86-4488-897A-47FA3193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0572F-0CB9-413F-8A1C-F787CDBB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EC598-AA2E-4352-A55F-86DDAEC8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86545-C78E-4FB1-ADA0-928C8D0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36802-F1F4-4EA3-81E6-B5CC3CEF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28A28-47F1-4BEE-9B6F-4DFD4D0C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DC0D2-F9F0-4455-9976-9A40D35D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9C3-CE72-40CD-9734-FEDD6634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9CB20-5D8C-4548-866B-4D50F73A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D5F3-3661-43F7-AB3A-34CBDE1B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8C95-FCEE-4ACA-A5B1-FCD778C7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B438-41E6-494A-9827-D512A9F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CBC-C400-4B08-A843-BB13ED8D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888C-8E20-4E1C-9A98-20D9A9F3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3DBC-AE87-4817-B034-FECA6539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2427-7F9D-4C2C-A4E3-7F5AD6FE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DBD-2DB8-4129-9250-6C6BEB66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58B8-66FE-4A18-AE32-A7A1532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F4CB-5800-4072-9CC9-57EA437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0B5F-A1E5-4029-B0ED-28516E75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5C0E-DB37-4362-A2CE-CDD60FC7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A347-5D91-4533-A074-BC6A4FF0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7CBA-E6E2-417A-8C52-01AC2C85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1FE7-CF7A-48C7-8042-318A5D99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ABAFE-7E11-4009-BD1E-EC0C4041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20E1-8F52-4D5B-98F2-5CEA5CBE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02E6-1130-48F1-B2CE-CCD0CB0F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3F4-15A2-4CB9-AE8D-B3588FEF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944A-FBCC-4609-A120-277C8E93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E21A-BC5D-4E71-BCB8-DCAC7A1D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0793-A9C1-4B2A-9C4D-5B2D59C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C1D2-CDA7-41DF-A011-49CCAEA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1058-D2EF-4AD4-AF5B-D6760ACB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F681-F155-442D-9A3D-002316DF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1C1B-7C3A-4CFB-BE92-F9AB2AA4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F7AA-034A-444C-9757-9E6717F1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3B740-DD16-4588-87ED-01EF6C9F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F44AA-CA72-4E3B-8DB1-1A811169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BD2-0AFE-49F0-BCC5-C83C8796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E3B8D-0010-4632-A554-2EB14259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5CB58-6A50-49B8-9B4A-A4AFF049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1983-DF9D-4B3F-9A31-516A10B0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1766-7D05-4BDE-8586-7C07F048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00B2-AD90-4C7B-9026-585D031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ED56E-D0A4-48A7-B194-A238EFF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8A08-F137-4818-BD3B-D60C19F6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A69B-0DDC-495B-83E5-2F11D6A7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7551-9D44-494B-AAEC-33DEB260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0015-3235-4D10-AD72-0A83D8BF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D80-4B50-472D-B1CC-E0A7656A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C454-F862-4067-A0F3-1884C38B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4344E-69AB-4B95-8449-7D0E7662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8F3A-5D89-4A24-A2B0-9A84D6F9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200A9-8B15-4214-9A57-25108EAA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894CD-F0C1-4A8E-A37D-62D020CF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EC55C-9DA8-4356-A668-50E4698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519F-6C6A-4A8E-B717-516D3D34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E4A3-BA03-4D8B-AC1C-D2FD8E0F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9D581-909D-4CB3-A601-0A276A72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16135-45CB-4599-8FCC-D78E8DA9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E03-D2FA-4ACF-97AB-6765079B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D68D-250C-487C-825A-96364B4C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7CBD-5403-4552-BEEC-7A3C8DE3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B78AF-3855-45D2-9EBC-7681FB06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459B-A02C-4612-A58D-760355C4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B67C-CE74-44A1-9E3B-09432CD8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F969-70C4-40ED-B994-4E0C3EE0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8B31-189D-4251-B709-86199A9B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6000-6BD2-4B6F-B797-A56FFD0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0C7AA-6858-476D-90FF-23767C4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E41D-3CF9-464F-A2C5-FF5894C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64C-1473-4D4E-9DB4-46C4B668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50564-954C-4B14-B2FE-8AC8A659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38469-7981-4FE8-B8A5-B2EED888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7644-8ADD-47D1-A11A-EF6AAF10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EDC63-B750-42E7-ADD7-75B4E385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DCBAF-EFB5-4632-8386-39CCA17F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1876F-D02F-466A-ACBA-FBB11CCC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4AF97-E8E3-41D5-913E-412AF358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54358-57C0-499D-B802-BE462250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1062-6793-4DFE-8E76-252C0418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9CC0C-BF3C-444E-A825-B7FC8E22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EAD-722D-45EF-854D-17567CEE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914E9-1A1B-4DB5-B9AC-7152B68F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8A47D-04F4-4D50-931D-E48F9DD2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7192D-AEA9-4590-980E-0F25B528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6276-2E9C-4746-B757-F35D405C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C3C74-63BF-45B3-8554-5C2F6590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B5B2F-1EA5-44BE-B8E5-C1E40BB8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18866-48AE-43CC-A6A0-88DFC290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1C17A-F8D5-4C9A-B91A-FDC40FB4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8D9D3-A9D8-44C6-BFFB-214248BF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97C95-8C97-465A-AA35-C42BD5DD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DD8-40B7-4F4B-A840-BA830414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7C192-DCDA-472C-B38D-EC45F1E7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E0A57-96AF-4D7D-9CB1-BA20FBB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367DF-50AA-45C4-8D2C-DECBD87C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6F15A-D566-4FE2-83B3-378A2069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8531C-4036-40A4-97C9-C65084F3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280E7-325F-4C4C-B645-926C1C9F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664C5-DB60-4087-83A3-C9CFE9B7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094C6-4BB8-4735-943E-74919079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42E01-7232-4EE0-A919-F1AF783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9BDCF-3ED2-4DC0-8AD5-190F058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D418-DD4D-4D5F-BA6A-1B87C3D2B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BAFE-AFAA-4FCC-878A-1926C5CD7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6177-BD4B-448F-85FE-21D78F4E7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F9AD-B2EA-4C95-A999-7CF99DD0B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B8C5-B259-4FA9-810C-390674CC1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1D8-1AAE-44CC-983D-CC2297BE1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057B-52F3-4630-B5D6-5C020B1D8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9724-5F8F-45C1-A50C-D6CA6B42F3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A88A-D25F-456D-9341-1C215C50D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F772-B515-4AA4-AB85-5AA2263AE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Прямоугольник 4" descr=""/>
          <p:cNvPicPr/>
          <p:nvPr/>
        </p:nvPicPr>
        <p:blipFill>
          <a:blip r:embed="rId2"/>
          <a:stretch/>
        </p:blipFill>
        <p:spPr>
          <a:xfrm>
            <a:off x="2200320" y="433440"/>
            <a:ext cx="6937200" cy="353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1"/>
          <p:cNvSpPr/>
          <p:nvPr/>
        </p:nvSpPr>
        <p:spPr>
          <a:xfrm>
            <a:off x="1908000" y="191628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fr-FR" sz="6600" spc="-1" strike="noStrike">
                <a:solidFill>
                  <a:srgbClr val="c00000"/>
                </a:solidFill>
                <a:latin typeface="Book Antiqua"/>
              </a:rPr>
              <a:t>8. </a:t>
            </a:r>
            <a:r>
              <a:rPr b="1" lang="de-DE" sz="6600" spc="-1" strike="noStrike">
                <a:solidFill>
                  <a:srgbClr val="c00000"/>
                </a:solidFill>
                <a:latin typeface="Arial"/>
              </a:rPr>
              <a:t>Alte Liebe rostet nic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1"/>
          <p:cNvSpPr/>
          <p:nvPr/>
        </p:nvSpPr>
        <p:spPr>
          <a:xfrm>
            <a:off x="1919160" y="1557360"/>
            <a:ext cx="7101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fr-FR" sz="6600" spc="-1" strike="noStrike">
                <a:solidFill>
                  <a:srgbClr val="c00000"/>
                </a:solidFill>
                <a:latin typeface="Book Antiqua"/>
              </a:rPr>
              <a:t>9. </a:t>
            </a:r>
            <a:r>
              <a:rPr b="1" lang="de-DE" sz="6600" spc="-1" strike="noStrike">
                <a:solidFill>
                  <a:srgbClr val="c00000"/>
                </a:solidFill>
                <a:latin typeface="Arial"/>
              </a:rPr>
              <a:t>Morgenstunde hat Gold im Mun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1908000" y="242100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fr-FR" sz="6600" spc="-1" strike="noStrike">
                <a:solidFill>
                  <a:srgbClr val="c00000"/>
                </a:solidFill>
                <a:latin typeface="Book Antiqua"/>
              </a:rPr>
              <a:t>10.</a:t>
            </a:r>
            <a:r>
              <a:rPr b="1" lang="de-DE" sz="6600" spc="-1" strike="noStrike">
                <a:solidFill>
                  <a:srgbClr val="c00000"/>
                </a:solidFill>
                <a:latin typeface="Arial"/>
              </a:rPr>
              <a:t> Fleiß bricht E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2"/>
          <p:cNvSpPr/>
          <p:nvPr/>
        </p:nvSpPr>
        <p:spPr>
          <a:xfrm>
            <a:off x="1835280" y="260280"/>
            <a:ext cx="6913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c00000"/>
                </a:solidFill>
                <a:latin typeface="Book Antiqua"/>
              </a:rPr>
              <a:t>Die Diskussions theme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TextBox 3" descr=""/>
          <p:cNvPicPr/>
          <p:nvPr/>
        </p:nvPicPr>
        <p:blipFill>
          <a:blip r:embed="rId2"/>
          <a:stretch/>
        </p:blipFill>
        <p:spPr>
          <a:xfrm>
            <a:off x="1841400" y="2292480"/>
            <a:ext cx="1657440" cy="1938240"/>
          </a:xfrm>
          <a:prstGeom prst="rect">
            <a:avLst/>
          </a:prstGeom>
          <a:ln w="0">
            <a:noFill/>
          </a:ln>
        </p:spPr>
      </p:pic>
      <p:pic>
        <p:nvPicPr>
          <p:cNvPr id="413" name="TextBox 4" descr=""/>
          <p:cNvPicPr/>
          <p:nvPr/>
        </p:nvPicPr>
        <p:blipFill>
          <a:blip r:embed="rId3"/>
          <a:stretch/>
        </p:blipFill>
        <p:spPr>
          <a:xfrm>
            <a:off x="6894360" y="2309760"/>
            <a:ext cx="1659240" cy="1938240"/>
          </a:xfrm>
          <a:prstGeom prst="rect">
            <a:avLst/>
          </a:prstGeom>
          <a:ln w="0">
            <a:noFill/>
          </a:ln>
        </p:spPr>
      </p:pic>
      <p:pic>
        <p:nvPicPr>
          <p:cNvPr id="414" name="TextBox 5" descr=""/>
          <p:cNvPicPr/>
          <p:nvPr/>
        </p:nvPicPr>
        <p:blipFill>
          <a:blip r:embed="rId4"/>
          <a:stretch/>
        </p:blipFill>
        <p:spPr>
          <a:xfrm>
            <a:off x="5619600" y="2309760"/>
            <a:ext cx="1659240" cy="1938240"/>
          </a:xfrm>
          <a:prstGeom prst="rect">
            <a:avLst/>
          </a:prstGeom>
          <a:ln w="0">
            <a:noFill/>
          </a:ln>
        </p:spPr>
      </p:pic>
      <p:pic>
        <p:nvPicPr>
          <p:cNvPr id="415" name="TextBox 6" descr=""/>
          <p:cNvPicPr/>
          <p:nvPr/>
        </p:nvPicPr>
        <p:blipFill>
          <a:blip r:embed="rId5"/>
          <a:stretch/>
        </p:blipFill>
        <p:spPr>
          <a:xfrm>
            <a:off x="4406760" y="2305080"/>
            <a:ext cx="1665360" cy="1938240"/>
          </a:xfrm>
          <a:prstGeom prst="rect">
            <a:avLst/>
          </a:prstGeom>
          <a:ln w="0">
            <a:noFill/>
          </a:ln>
        </p:spPr>
      </p:pic>
      <p:pic>
        <p:nvPicPr>
          <p:cNvPr id="416" name="TextBox 7" descr=""/>
          <p:cNvPicPr/>
          <p:nvPr/>
        </p:nvPicPr>
        <p:blipFill>
          <a:blip r:embed="rId6"/>
          <a:stretch/>
        </p:blipFill>
        <p:spPr>
          <a:xfrm>
            <a:off x="2992320" y="2309760"/>
            <a:ext cx="1658880" cy="1938240"/>
          </a:xfrm>
          <a:prstGeom prst="rect">
            <a:avLst/>
          </a:prstGeom>
          <a:ln w="0">
            <a:noFill/>
          </a:ln>
        </p:spPr>
      </p:pic>
      <p:pic>
        <p:nvPicPr>
          <p:cNvPr id="417" name="TextBox 8" descr=""/>
          <p:cNvPicPr/>
          <p:nvPr/>
        </p:nvPicPr>
        <p:blipFill>
          <a:blip r:embed="rId7"/>
          <a:stretch/>
        </p:blipFill>
        <p:spPr>
          <a:xfrm>
            <a:off x="1859040" y="3828960"/>
            <a:ext cx="1658880" cy="1938600"/>
          </a:xfrm>
          <a:prstGeom prst="rect">
            <a:avLst/>
          </a:prstGeom>
          <a:ln w="0">
            <a:noFill/>
          </a:ln>
        </p:spPr>
      </p:pic>
      <p:pic>
        <p:nvPicPr>
          <p:cNvPr id="418" name="TextBox 9" descr=""/>
          <p:cNvPicPr/>
          <p:nvPr/>
        </p:nvPicPr>
        <p:blipFill>
          <a:blip r:embed="rId8"/>
          <a:stretch/>
        </p:blipFill>
        <p:spPr>
          <a:xfrm>
            <a:off x="6918480" y="3846600"/>
            <a:ext cx="2133360" cy="193824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10" descr=""/>
          <p:cNvPicPr/>
          <p:nvPr/>
        </p:nvPicPr>
        <p:blipFill>
          <a:blip r:embed="rId9"/>
          <a:stretch/>
        </p:blipFill>
        <p:spPr>
          <a:xfrm>
            <a:off x="5645160" y="3846600"/>
            <a:ext cx="1657440" cy="1938240"/>
          </a:xfrm>
          <a:prstGeom prst="rect">
            <a:avLst/>
          </a:prstGeom>
          <a:ln w="0">
            <a:noFill/>
          </a:ln>
        </p:spPr>
      </p:pic>
      <p:pic>
        <p:nvPicPr>
          <p:cNvPr id="420" name="TextBox 11" descr=""/>
          <p:cNvPicPr/>
          <p:nvPr/>
        </p:nvPicPr>
        <p:blipFill>
          <a:blip r:embed="rId10"/>
          <a:stretch/>
        </p:blipFill>
        <p:spPr>
          <a:xfrm>
            <a:off x="4432320" y="3840120"/>
            <a:ext cx="1657440" cy="193824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12" descr=""/>
          <p:cNvPicPr/>
          <p:nvPr/>
        </p:nvPicPr>
        <p:blipFill>
          <a:blip r:embed="rId11"/>
          <a:stretch/>
        </p:blipFill>
        <p:spPr>
          <a:xfrm>
            <a:off x="3011400" y="3846600"/>
            <a:ext cx="16574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1878120" y="1844640"/>
            <a:ext cx="69120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2" action="ppaction://hlinksldjump"/>
              </a:rPr>
              <a:t>1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3" action="ppaction://hlinksldjump"/>
              </a:rPr>
              <a:t>.</a:t>
            </a:r>
            <a:r>
              <a:rPr b="0" lang="de-DE" sz="6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 </a:t>
            </a:r>
            <a:r>
              <a:rPr b="0" lang="de-DE" sz="6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er Apfel fällt nicht weit vom Stam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1763640" y="2133720"/>
            <a:ext cx="6912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2" action="ppaction://hlinksldjump"/>
              </a:rPr>
              <a:t>2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3" action="ppaction://hlinksldjump"/>
              </a:rPr>
              <a:t>. </a:t>
            </a:r>
            <a:r>
              <a:rPr b="0" lang="de-DE" sz="6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Lerne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00000"/>
                </a:solidFill>
                <a:latin typeface="Arial"/>
              </a:rPr>
              <a:t>ist </a:t>
            </a:r>
            <a:r>
              <a:rPr b="0" lang="de-DE" sz="66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nie spä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1908000" y="2349360"/>
            <a:ext cx="69120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2" action="ppaction://hlinksldjump"/>
              </a:rPr>
              <a:t>3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3" action="ppaction://hlinksldjump"/>
              </a:rPr>
              <a:t>. </a:t>
            </a:r>
            <a:r>
              <a:rPr b="0" lang="de-DE" sz="6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Die Zeit heilt alle Wund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1871640" y="1628640"/>
            <a:ext cx="691200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2" action="ppaction://hlinksldjump"/>
              </a:rPr>
              <a:t>4.</a:t>
            </a:r>
            <a:r>
              <a:rPr b="0" lang="de-DE" sz="6600" spc="-1" strike="noStrike" u="sng">
                <a:solidFill>
                  <a:srgbClr val="0000ff"/>
                </a:solidFill>
                <a:uFillTx/>
                <a:latin typeface="Book Antiqua"/>
                <a:hlinkClick r:id="rId3" action="ppaction://hlinksldjump"/>
              </a:rPr>
              <a:t> Freunde sind über Gold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und Silb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1979640" y="1557360"/>
            <a:ext cx="6912000" cy="35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2" action="ppaction://hlinksldjump"/>
              </a:rPr>
              <a:t>5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3" action="ppaction://hlinksldjump"/>
              </a:rPr>
              <a:t>.</a:t>
            </a:r>
            <a:r>
              <a:rPr b="0" lang="de-DE" sz="6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 Die Augen sind der Spiegel der Seele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1908000" y="1773360"/>
            <a:ext cx="69120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2" action="ppaction://hlinksldjump"/>
              </a:rPr>
              <a:t>6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3" action="ppaction://hlinksldjump"/>
              </a:rPr>
              <a:t>. </a:t>
            </a:r>
            <a:r>
              <a:rPr b="0" lang="de-DE" sz="6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Wer nicht arbeitet, soll nicht ess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1908000" y="1628640"/>
            <a:ext cx="691200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2" action="ppaction://hlinksldjump"/>
              </a:rPr>
              <a:t>7</a:t>
            </a:r>
            <a:r>
              <a:rPr b="0" lang="fr-FR" sz="6600" spc="-1" strike="noStrike" u="sng">
                <a:solidFill>
                  <a:srgbClr val="0000ff"/>
                </a:solidFill>
                <a:uFillTx/>
                <a:latin typeface="Book Antiqua"/>
                <a:hlinkClick r:id="rId3" action="ppaction://hlinksldjump"/>
              </a:rPr>
              <a:t>. </a:t>
            </a:r>
            <a:r>
              <a:rPr b="0" lang="de-DE" sz="6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Den Freund erkennt ma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00000"/>
                </a:solidFill>
                <a:latin typeface="Arial"/>
              </a:rPr>
              <a:t>in N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11:30:05Z</dcterms:created>
  <dc:creator>нажать сюда</dc:creator>
  <dc:description/>
  <dc:language>en-US</dc:language>
  <cp:lastModifiedBy>DNA7 X86</cp:lastModifiedBy>
  <dcterms:modified xsi:type="dcterms:W3CDTF">2014-12-10T19:12:57Z</dcterms:modified>
  <cp:revision>16</cp:revision>
  <dc:subject/>
  <dc:title>THE DEBATE</dc:title>
</cp:coreProperties>
</file>