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7A5D-B0D7-4715-8DC6-10827FBA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DED-638A-48E2-A421-24313A25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72D5-3A54-4C06-A8A1-5F207CBF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2AF4-1683-4D2D-9EA8-BEAF8B73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8DFF-482C-4C94-AF95-4D4C1F88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0B47-7F19-42C8-A4A4-A3A3DDBB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46AA-2C48-43DD-83CA-7F0D9C74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1B3F-F080-4FBC-B566-A3C39E50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E31C-CCAF-42B1-B507-8C774E9B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97AB-1818-45EA-86CE-499CF523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622C-6DD0-47C3-AA73-5D9F591B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BDD2-00D4-4277-83EA-035A4784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B5C1-3A04-40A5-8DE4-DB293199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6F7F-77AE-4EFC-8C73-14DE5FB5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F1E4-8224-4022-836F-04C3AE23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FB2D-B11E-4D79-A787-EC226EB4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A94A-AD7B-4F03-9D70-083E0E1E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77039-CBA9-48E1-802C-E1209A11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48C04-F126-40B3-ADAE-643080A8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CB23B-3EA6-49B4-B3A3-B8104A84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2099B-7F2F-4F72-AE6A-9FEFCD20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CBE3E-D714-4866-A32C-2CCBD010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8E3-76B9-4558-81BF-FD0DFB49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E18E2-3274-431F-AD18-F130C19B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2958D-975F-4705-B342-4B58DEEA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CDD5E-4FEA-4CE9-B307-CE8CB130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E893C-E681-471B-86F3-BEDE5F2F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02EB9-BE7C-459A-995A-40400EF7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E1FD5-7AF7-4EDA-A3C2-A6C5FD50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E494B-06D8-4041-A25B-B1572E61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ABBE9-639C-426C-9628-0BE40A82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DC41C-D4F3-4195-8AF4-4983C08B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5E428-7377-460C-900E-55ECA1B6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B6E-DF04-48E7-9399-C3A3581B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537B7-543C-4F2E-ADF9-D43DC5E2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1310E-B468-4DF4-ABFC-16E0FCA1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3330E-45FC-44A8-B3C6-AAEB81A2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16F65-CE82-40D3-BB25-A771803A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93DDA-999D-4D5B-869C-5D4D2D2B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8B20F-973B-4B61-8B6F-EECCBA16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12FBE-A808-4206-A215-A7E94B6B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B8E05-1ECC-4491-B640-3F693C92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5F890-279C-46A8-A77E-EAAEA2F9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14959-304C-420B-BCFD-B3EE3B94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B61-0ABD-48F1-864F-DBED00C5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808DF-D45B-4474-A1C2-0672AC67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CFC28-5EE9-4241-9E73-D819C1FA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7ABB5-04F5-4259-AEC9-C9E61580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364AB-D994-4540-B4FC-6A92AB95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72BA6-1BA1-4736-A8B6-524A071C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2ED32-C17F-4D8D-98C8-C039C4F3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D3B9B-280B-447C-AB8B-4FAD35D4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6552F-3E1D-4102-AD35-755E650C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BAAA9-3019-4D62-80D0-60D97E2F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2E453-E29D-4A81-9726-90659B1C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9F5-1694-4338-BD49-0DE54701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631DA-C009-4534-94B2-50BB3E4B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7C2-263C-4E72-B705-421F638B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A320-297F-458C-9B37-43E6C46A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5785-FC85-4EC3-A3BB-E5FD318F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212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e21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e21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9962-E27E-4716-9576-9FD063F92A9C}" type="slidenum">
              <a:rPr b="0" lang="en-GB" sz="1400" spc="-1" strike="noStrike">
                <a:solidFill>
                  <a:srgbClr val="1e212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212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e21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e21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1F38-C371-4085-B069-27E97E2AB1DC}" type="slidenum">
              <a:rPr b="0" lang="en-GB" sz="1400" spc="-1" strike="noStrike">
                <a:solidFill>
                  <a:srgbClr val="1e212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212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e21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e21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3A10-44CE-418B-8526-42FF9252A469}" type="slidenum">
              <a:rPr b="0" lang="en-GB" sz="1400" spc="-1" strike="noStrike">
                <a:solidFill>
                  <a:srgbClr val="1e212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68360" y="1617840"/>
            <a:ext cx="822960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48420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212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e21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9B6B-EDA5-415F-B8D0-8A182532E6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212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e21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e21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4863-F4DF-4FDE-BBFD-D3197FD957F5}" type="slidenum">
              <a:rPr b="0" lang="en-GB" sz="1400" spc="-1" strike="noStrike">
                <a:solidFill>
                  <a:srgbClr val="1e212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C:\Users\Администратор\Desktop\8fcdedf5838c.jpg"/>
          <p:cNvPicPr/>
          <p:nvPr/>
        </p:nvPicPr>
        <p:blipFill>
          <a:blip r:embed="rId1"/>
          <a:stretch/>
        </p:blipFill>
        <p:spPr>
          <a:xfrm>
            <a:off x="762120" y="501480"/>
            <a:ext cx="7619760" cy="5855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Presentation Magazine</dc:creator>
  <dc:description/>
  <dc:language>en-US</dc:language>
  <cp:lastModifiedBy>DNA7 X86</cp:lastModifiedBy>
  <dcterms:modified xsi:type="dcterms:W3CDTF">2014-12-10T19:29:21Z</dcterms:modified>
  <cp:revision>53</cp:revision>
  <dc:subject/>
  <dc:title>Standard PowerPoint Template</dc:title>
</cp:coreProperties>
</file>