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69D0-1361-4C2B-88C9-21E328CA9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52D8-C3AC-4E56-8C63-D849ED242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2222-EF14-4540-BF7B-8CD2185FA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FBAF-A2EC-4FD7-B9FB-837D3D813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D98B0-2610-4CE0-8A6F-C5083E85C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1B10E-C229-40FD-881F-3BAAA9C38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88899-509A-4FAC-868A-30098F795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2FC61-DF22-490B-AED4-2AAF5A79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94B88-588B-44F7-8F43-EA4522119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76B76-9CB4-4117-9192-4242E8B17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81199-E0B6-40C1-9706-8D241FAE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2260-4978-4691-9EF3-B11D93BDE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A34A9-35C4-40EC-BF25-A8222EE4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65CB8-6722-4665-8BBE-E1965A37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B1962-52F7-4998-AD9F-B48F635AA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1F700-25A8-4C82-B17F-1917B8AB2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CA073-821E-4C9B-9A13-F48CDBD4C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0335F-2495-4D5B-97A3-F607CAC0E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371A7-E6B1-438C-AB5A-E558F1F8C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C8ED3-6E5B-46C5-A8AB-7F738EBC5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B6538-1D3F-420C-B734-C7510A1DE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596A4-2C6C-428A-B720-021E36B3B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265D-8C31-43E6-BB21-E775C9508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C1FAD-DCFC-4E23-982D-4D7F9818E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5A516-0AB2-43A5-9A75-EF42F813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35320-23BB-4351-B1E9-272B5FA4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C6335-1D95-4F66-A5E4-52B8D368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18814-63FD-4B66-B02F-51854FDD7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4C7E1-F26A-4D26-A2AC-B32C98FD1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4AC52-CC85-44F8-9A5D-4909097F1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BCB69-8332-48FA-B77C-1DF82A632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101E4-AA76-4A52-B438-6B5BF937A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CDEC5-6076-47F8-A93F-B9823FA16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FBAF-D5A0-4A9B-81B6-2D1707FCE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5EEA4-AC0B-4979-B0E8-52D205169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BD897-138F-44C3-A7A0-4E3263B84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2D2BD-37B9-4F96-972D-B42D0AB1A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87E58-6A68-44F5-B7F4-6A6B0453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62B5F-FF48-40A5-B3DD-18525AD4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0701D-3CDF-41B7-8024-5B6A4EC0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F9577-882D-423A-AE20-69DDDC810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7A1A8-9612-4B71-AA70-132AEA748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21451-B585-4CCC-A2B4-DA80BF204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1B988-47AA-4BB8-AB43-AEA85B1D4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AE95-1E5B-48A8-A769-E6EFEDE3A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4449F-AF15-4E87-85C1-B303CD6EF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EE24A3-8E72-45DC-AC96-95AD5D8DA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6890D-E972-420E-A018-6CB27F543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EA014-000F-4E09-B11F-569BAEDE6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03FF7-9E38-4F53-B707-A0E47B6C0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47387-0870-415D-B3AA-A27D14E9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FCCEA-DC1D-48F3-BB98-FF9C4FB0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1378B-6BD8-484E-8C9C-0BDF8AB8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4837D-4540-483D-8010-71962AFCF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44F9E-3049-4D59-BBB8-EF545A47F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EBB6-697D-46AC-A106-547127132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894E8-C225-4BAC-A8AB-9AFD534C6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1CFE-B704-454E-A428-F98DDF2A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ACAA-570B-4A82-AC5B-4C3A49EB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7073-B240-4436-8BA9-62B86BDC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e212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e2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12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e2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12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e2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12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e2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12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e212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12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12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12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e212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8F80C-8151-4C52-A7AB-08D013B7C207}" type="slidenum">
              <a:rPr b="0" lang="en-GB" sz="1400" spc="-1" strike="noStrike">
                <a:solidFill>
                  <a:srgbClr val="1e212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e212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e2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12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e2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12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e2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12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e2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12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e212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12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12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12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e212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6655F-777F-4F8F-9ED3-BD40CA8C309A}" type="slidenum">
              <a:rPr b="0" lang="en-GB" sz="1400" spc="-1" strike="noStrike">
                <a:solidFill>
                  <a:srgbClr val="1e212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e212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e2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12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e2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12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e2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12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e2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12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e212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12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12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12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e212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888E3-B909-4D61-8011-8683FFDFB802}" type="slidenum">
              <a:rPr b="0" lang="en-GB" sz="1400" spc="-1" strike="noStrike">
                <a:solidFill>
                  <a:srgbClr val="1e212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468360" y="1617840"/>
            <a:ext cx="8229600" cy="51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484200" y="1268280"/>
            <a:ext cx="820908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e212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e2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12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e2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12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e2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12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e2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12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e212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12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12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12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E9F73-5284-4BE4-9491-459074ACB7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e212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e2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12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e2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12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e2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12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e2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12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e212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12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12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212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e2128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e212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5158E-CD1A-47D9-B01E-2F4CDED6F885}" type="slidenum">
              <a:rPr b="0" lang="en-GB" sz="1400" spc="-1" strike="noStrike">
                <a:solidFill>
                  <a:srgbClr val="1e212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Box 1"/>
          <p:cNvSpPr/>
          <p:nvPr/>
        </p:nvSpPr>
        <p:spPr>
          <a:xfrm>
            <a:off x="337680" y="189000"/>
            <a:ext cx="84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ние: по иллюстрации представить сюжет книги и описать (место, врем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м началось, что случилось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3" descr="C:\Users\Администратор\Desktop\HONBACHI_Planter_Kits_Tara_MCGinley1.jpg"/>
          <p:cNvPicPr/>
          <p:nvPr/>
        </p:nvPicPr>
        <p:blipFill>
          <a:blip r:embed="rId1"/>
          <a:stretch/>
        </p:blipFill>
        <p:spPr>
          <a:xfrm>
            <a:off x="404640" y="1214280"/>
            <a:ext cx="8280720" cy="4530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13:35:13Z</dcterms:created>
  <dc:creator>Presentation Magazine</dc:creator>
  <dc:description/>
  <dc:language>en-US</dc:language>
  <cp:lastModifiedBy>DNA7 X86</cp:lastModifiedBy>
  <dcterms:modified xsi:type="dcterms:W3CDTF">2014-12-10T19:30:15Z</dcterms:modified>
  <cp:revision>50</cp:revision>
  <dc:subject/>
  <dc:title>Standard PowerPoint Template</dc:title>
</cp:coreProperties>
</file>