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0A9-7585-47D4-BEB5-F70704DB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181-CB9D-440F-B0FA-E1FC8238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1058-40F7-42B1-8D82-FE3B52F6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5A95-F0A5-4FED-9FED-B28F2387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2ACF-9D91-44D4-8F68-26117C6B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62D1-9B72-4B0D-BE2C-D323E162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4AB4-0290-4259-A759-722A0CE1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24F6-8C1E-4DEF-A3EE-577D5A5C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E79C-C13D-45F5-9D28-CEFF5822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B2F3-21A0-4589-B602-23C3B550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DCEC-27D9-49B1-A3F0-34AFD0EA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D0A6-6E0E-41A1-912D-EE279A96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B30E-9D4D-4849-B142-CE0A359D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29FE-F6C7-4F10-8EFE-7284CD88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B5F5-0DD9-41A1-8D49-0AFE9589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7D8E-BFE6-4D4B-809D-80C05404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56B6-3F8E-4A3D-BA44-2CD6432D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628C-44FD-4543-9930-D1934771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A29-0B3F-407D-B0C9-D370345E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C570-12C3-4EC4-91C2-AA19B4E5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8BB6-BF2B-466E-B6AB-3590FD91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F36F-CE11-4204-AF26-6F278ECF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1A67-62B2-4411-A8B0-8904E374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CD6C-8EDA-4DB6-BEC5-248D2230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D5B2-10DE-485C-ACD6-977DCF7C42B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молярук Е.Л. 102-611-9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7E24-4262-400B-9536-A26DA75B09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H:\графика\asadal\scool\scool\38 [Converted].png"/>
          <p:cNvPicPr/>
          <p:nvPr/>
        </p:nvPicPr>
        <p:blipFill>
          <a:blip r:embed="rId6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:\графика\asadal\scool\scool\23\10101010.png"/>
          <p:cNvPicPr/>
          <p:nvPr/>
        </p:nvPicPr>
        <p:blipFill>
          <a:blip r:embed="rId7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6A49-5CB7-488A-8AAA-1A41B938761C}" type="datetime">
              <a:rPr b="0" lang="ru-RU" sz="1200" spc="-1" strike="noStrike">
                <a:solidFill>
                  <a:srgbClr val="002060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Смолярук Е.Л. 102-611-9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1570-5B5B-4714-B926-C0EDC8A37A89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помочь ребенку учиться?</a:t>
            </a:r>
            <a:endParaRPr b="1" lang="en-US" sz="32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71680" y="1357200"/>
            <a:ext cx="82152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дети – второклассники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 algn="just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объект их труда – книга, тетрадь, а главный труд в школе – учение. Необходимо поддерживать их интерес к учению, способствовать развитию у них любознательности, познавательной активности, наблюдательности, памяти, внимания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 algn="just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должна поддерживать интерес ребенка к учению, помочь ему включиться в учебный труд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 algn="just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дной стороны, нужно помочь ребенку  найти правильный режим работы, выделить место для занятий, определить порядок выполнения работы уроков. А с другой стороны, воспитать у него стойкую привычку садиться за уроки вопреки желанию поиграть или погулять, сформировать умение быстро включиться  в работу, вести ее, не отвлекаясь и в хорошем темпе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 algn="just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ть начатое дело до конца, добиваться поставленной цели, рационально распределять свое время, выполнять домашнее задание самостоятельно – всему этому ребенка нужно учить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 algn="just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полнении детьми домашних заданий очень важно помочь им выработать навыки самоконтроля, умения работать самостоятельно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655308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BC8A-7C63-4D28-A821-D528B01BC3A2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стные задания: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мотри, что задано, подумай, с чего начинать выполнять задание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читай задание по учебнику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дели основные части, главные мысли текста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читай задание вторично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ставь план прочитанного; расскажи по плану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тори рассказ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еди за интонацией, темпом речи; не спеши, говори ясно, четко.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Номер слайда 2"/>
          <p:cNvSpPr/>
          <p:nvPr/>
        </p:nvSpPr>
        <p:spPr>
          <a:xfrm>
            <a:off x="655308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04C8-5984-4FEB-9ECF-127E0AE506CA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6840" y="1571400"/>
            <a:ext cx="8435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 решению задач: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читай внимательно задание, если не понял содержания, прочитай еще раз, подумай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тори условия задачи и ее вопросы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умай, что известно из условия задачи, а что надо найти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умай, что нужно узнать сначала, что потом, чтобы ответить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вопрос задачи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умай, по какому плану будешь решать задачу; решай задачу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ерь ход решения, ответ. 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Номер слайда 2"/>
          <p:cNvSpPr/>
          <p:nvPr/>
        </p:nvSpPr>
        <p:spPr>
          <a:xfrm>
            <a:off x="655308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1927-B2B9-4591-9267-E907DF11FB27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 выполнению заданий по языку: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имательно прочитай задание; подумай, какими правилами можно воспользоваться при его выполнении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не уверен, знаешь ли ты правило точно, найди его в учеб­нике и еще раз повтори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олняя задание, сверяйся с правилами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ерь работу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обнаружил ошибку, аккуратно исправь ее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655308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3B7F-25CD-41BB-8B2F-1740B30D6CE1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К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олнению заданий по чтению: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читай текст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встретишь непонятные слова, выясни их смысл (у старших, или в словаре)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в чтении текста были затруднения, прочитай его еще раз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читай весь текст, подумай над его содержанием, перескажи его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Номер слайда 2"/>
          <p:cNvSpPr/>
          <p:nvPr/>
        </p:nvSpPr>
        <p:spPr>
          <a:xfrm>
            <a:off x="655308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468C-FAF2-4827-86C0-48AAB44A6EF0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вила списывания: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читай предложение, прочитай каждое слово по слогам так, как оно пишется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исывай, диктуя себе по слогам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ерь списанное: читай слово в тетради и это же слово в книге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655308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955A-0E92-40BC-B18F-952040B7431A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режим дня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1" lang="en-US" sz="2800" spc="-1" strike="noStrike">
              <a:solidFill>
                <a:srgbClr val="f2f2f2"/>
              </a:solidFill>
              <a:latin typeface="Cambri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295280" y="1582560"/>
          <a:ext cx="6266160" cy="4770720"/>
        </p:xfrm>
        <a:graphic>
          <a:graphicData uri="http://schemas.openxmlformats.org/drawingml/2006/table">
            <a:tbl>
              <a:tblPr/>
              <a:tblGrid>
                <a:gridCol w="2987640"/>
                <a:gridCol w="3278520"/>
              </a:tblGrid>
              <a:tr h="324000"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буж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0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24000"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рядка, туалет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00-7.2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23640"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втрак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20-7.35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24000"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рога в школу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35 -7.45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23640"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нятия в школе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10 -13.3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24000"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30 -14.0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24000"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гулка на воздухе, кружки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0- 15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23640"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олнение домашних зада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0 -16-2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24000"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гулки,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20 -17.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60160"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олнение домашних заданий Свободные занятия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.00- 17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.30-19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24000"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жин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0-19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24000"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ение книг, спокойные иг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30 -20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23640"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готовление ко с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30 -2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24000"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н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00 -7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51120" marR="51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3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6FF5-47B4-48D6-8E04-74D050799C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2"/>
          <p:cNvGrpSpPr/>
          <p:nvPr/>
        </p:nvGrpSpPr>
        <p:grpSpPr>
          <a:xfrm>
            <a:off x="0" y="212760"/>
            <a:ext cx="9144000" cy="1146240"/>
            <a:chOff x="0" y="212760"/>
            <a:chExt cx="9144000" cy="1146240"/>
          </a:xfrm>
        </p:grpSpPr>
        <p:pic>
          <p:nvPicPr>
            <p:cNvPr id="134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212760"/>
              <a:ext cx="91440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0" y="21420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Педагогические ситуации:</a:t>
              </a:r>
              <a:endParaRPr b="0" lang="en-US" sz="32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анализируйте, какой жизненный опыт получит ребенок, когда родители помогают ему выполнять домашнее задание и когда не помогают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Решение: Разумно предоставить ребенку самостоятельность, оставляя за собой руководство и помощь в необходимых ситуациях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Как сделать подготовку домашнего задания делом привлекательным?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Решение: Для ребенка важно иметь удобное, красивое рабочее место. Родители, занимаясь своим делом, должны быть рядом, всегда готовые помочь. Старайтесь, чтобы ребенку все было понятно, что ему сделать и как, - тем больше будет его желание все выполнить, найдите, за что можно ребенка похвалить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Как должны вести себя родители, увидев в работе ребенка ошибки?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Решение: Не отмечать самому ошибку. Направить внимание ребенка: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На сточку, где допущена ошибка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На слово с ошибкой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Спросить, почему возникла такая ошибка, как ее исправить. Ребенок должен научиться анализировать свои работы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655308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7716-AC3F-449A-84DE-D197B759966E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9280" y="1571400"/>
            <a:ext cx="8785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Ребенок просит маму отпустить его к другу поиграть в новую игру, а уроки он сделает потом. Как поступить в своей ситуации? Можно ли вообще верить обещаниям?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Решение: Не стоит верить обещаниям. Дети могут увлечься игрой и не обратить внимание на время. Данное обещание будет не выполнено. «Сначала дело, а развлечения потом». И никаких авансов. Если ребенок избалован, рассчитывать на его обещания не приходится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. Ребенка долго приходится уговаривать сесть за уроки. А сядет – постоянно отвлекается и норовит убежать. Что делать родителям?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Решение: До тех пор, пока ребенок будет считать, что учится для родителей, а ему учеба не нужна, ситуация не поправится. Родителям необходимо сформировать у ребенка определенную мотивацию к обучению. У него должен возникнуть личный интерес к урокам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Номер слайда 2"/>
          <p:cNvSpPr/>
          <p:nvPr/>
        </p:nvSpPr>
        <p:spPr>
          <a:xfrm>
            <a:off x="655308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BE2D-B142-4D65-89F3-6FFBA293F5EF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Rectangle 2"/>
          <p:cNvGrpSpPr/>
          <p:nvPr/>
        </p:nvGrpSpPr>
        <p:grpSpPr>
          <a:xfrm>
            <a:off x="0" y="189000"/>
            <a:ext cx="9144000" cy="1139760"/>
            <a:chOff x="0" y="189000"/>
            <a:chExt cx="9144000" cy="1139760"/>
          </a:xfrm>
        </p:grpSpPr>
        <p:pic>
          <p:nvPicPr>
            <p:cNvPr id="141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9144000" cy="11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0" y="189000"/>
              <a:ext cx="91440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Рекомендации: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360" y="134136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67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амятка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67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«Хотите, чтобы ваш ребенок ходил в школу 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675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 удовольствием?»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67520" indent="-594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говорите о школе плохо, не критикуйте учителей в присутствии детей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67520" indent="-594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спешите обвинять учителя в отсутствии индивидуального подхода, задумайтесь над линией собственного поведения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67520" indent="-594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помните, сколько раз вы сидели с ребенком и наблюдали за его работой над уроками. Были ли случаи, когда вы заметили у ребенка неправильные приемы работы и показали ему правильные?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67520" indent="-594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лучае конфликтной ситуации в школе постарайтесь устранить ее, не обсуждая все подробности с ребенком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67520" indent="-594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едите, чтобы ваш ребенок вовремя ложился спать. Не выспавшийся ребенок на уроке – грустное зрелище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67520" indent="-594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сть ваш ребенок видит, что вы интересуетесь его заданиями, книгами, которые он приносит из школы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67520" indent="-594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тайте сами, пусть ребенок видит, что свободное время вы проводите за книгами, а не только у телевизора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67520" indent="-594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 ребенка выражать свои мысли письменно: обменивайтесь с ним записками, пишите письма вместе письма. Если ребенок рассказывает вам о событии, которое произвело на него впечатление, то предложите ему записать этот рассказ, а вечером прочитать всем членам семьи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67520" indent="-594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имайте участие в жизни класса и школы. Ребенку приятно, если его школа станет частью вашей жизни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740040" y="6381720"/>
            <a:ext cx="16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16D8-F704-4939-B4CB-28C7BCC35C67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УРОК БАБОЧКИ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4720-C62C-4BA4-AC53-409AFEE90C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47" name="Объект 6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19308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2364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-30492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зык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04920" indent="-30492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требования к уровню подготовки учащихся второго класса: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 концу обучения во втором классе учащиеся должны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различать: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уки и буквы, гласные и согласные звуки и буквы, твердые и мягкие, звонкие и глухие согласные звуки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о и предложение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а, называющие предмет, признак предмета, действие предмета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я по цели высказывания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ги приставки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уровне правописания)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выделять, находить: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ень, суффикс, приставку, окончание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сическое значение слова в толковом словаре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значные слова, синонимы, антонимы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ую мысль текста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решать практические задачи: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ять слово по заданной словообразовательной модели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бирать заголовок к данному тексту, озаглавливать собственный текст, определять по заголовкам содержание текста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равлять деформированный текст ( с нарушенным порядком следования частей)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нять правила правописания: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сных после шипящих (жи-ши, ча-ща, чу-щу)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главной буквы в изученных случаях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ударных проверяемых гласных в корне слова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онких и глухих парных согласных в корне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арных слов, определенных программой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04920" indent="-304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делительного мягкого знака.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4" name="Rectangle 4"/>
          <p:cNvGrpSpPr/>
          <p:nvPr/>
        </p:nvGrpSpPr>
        <p:grpSpPr>
          <a:xfrm>
            <a:off x="0" y="189000"/>
            <a:ext cx="9144000" cy="1139760"/>
            <a:chOff x="0" y="189000"/>
            <a:chExt cx="9144000" cy="1139760"/>
          </a:xfrm>
        </p:grpSpPr>
        <p:pic>
          <p:nvPicPr>
            <p:cNvPr id="95" name="Rectangle 4" descr="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9144000" cy="11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0" y="189000"/>
              <a:ext cx="91440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Из программы начальной школы</a:t>
              </a:r>
              <a:endParaRPr b="0" lang="en-US" sz="32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7" name="Номер слайда 3"/>
          <p:cNvSpPr/>
          <p:nvPr/>
        </p:nvSpPr>
        <p:spPr>
          <a:xfrm>
            <a:off x="655308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C589-8D99-4C31-85C9-A0492E6C7E2A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69080" cy="46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итературное чтение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556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требования к уровню подготовки учащихся второго класса: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55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 концу обучения во втором классе учащиеся должны уметь: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55680" indent="-35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 читать текст целыми словами (темп чтения в соответствии с индивидуальными возможностями учащихся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55680" indent="-35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тать молча небольшие тексты (темп – не менее  50 слов в минуту)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55680" indent="-35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сказывать прочитанный текст по готовому плану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55680" indent="-35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казывать свое отношение к поступку героя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55680" indent="-35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тему и жанр прочитанного или прослушанного произведения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55680" indent="-35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тать наизусть 5-6 стихотворений и 1-2 отрывка из прозы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55680" indent="-35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стоятельно знакомиться с произведениями и книгой (выделять фамилию автора, заголовок)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55680" indent="-35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ьзоваться словарями, книгами справочниками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55680" indent="-35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стоятельно отбирать книги для чтения.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Номер слайда 2"/>
          <p:cNvSpPr/>
          <p:nvPr/>
        </p:nvSpPr>
        <p:spPr>
          <a:xfrm>
            <a:off x="655308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078D-9D37-4867-B3DF-9E32100EF528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требования к уровню подготовки учащихся второго класса: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 концу обучения во втором классе учащиеся должны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называть: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оненты и результаты арифметических действий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о, большее (меньшее) данного в несколько раз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гуру, изображенную на рисунке (луч, угол, отрезок, окружность, многоугольник)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различать: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овое выражение и выражение с переменной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ые и непрямые углы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метр и площадь фигуры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уч и отрезок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менты многоугольника: вершина, стороны, угол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равнивать: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бые двузначные числа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а числа, характеризуя результат сравнения словами «больше в …», «меньше в …»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воспроизводить по памяти: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ультаты табличных случаев вычитания чисел в пределах 20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ультаты табличного умножения однозначных чисел; результаты табличных случаев деления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я между единицами длины: 1 м = 100 см, 1 дм = 10 см, 1 м = 10 дм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рямоугольника (квадрата)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приводить примеры: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ового выражения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жения содержащего переменную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устанавливать связи и зависимости: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 площадью прямоугольника и длинами сторон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Номер слайда 2"/>
          <p:cNvSpPr/>
          <p:nvPr/>
        </p:nvSpPr>
        <p:spPr>
          <a:xfrm>
            <a:off x="655308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BBA5-652D-49CB-8D15-E52ACF681A4A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использовать модели (моделировать учебную ситуацию):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ять и решать задачу по данной схеме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тать графы, моделирующие отношения между числами (величинами); строить графы отношений, выраженные словами «больше», «меньше», «старше», «моложе» и т.п.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решать учебные и практические задачи: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тать и записывать цифрами любые двузначные числа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ять простейшие выражения (сумму, разность, произведение, частное)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чать на числовом луче точку с данными координатами; читать координату точки, лежащей на числовом луче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олнять несложные устные вычисления в пределах 100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олнять письменно сложение и вычитание чисел, когда результат действий не превышает 100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ять свойства умножения и деления при выполнении вычислений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ять правила поразрядного сложения и вычитания чисел при выполнении письменных вычислений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числять значения выражения с одной переменной при заданном наборе числовых значений этой переменной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ть составные текстовые задачи в два действия (в различных комбинациях), в том числе задачи на увеличение и уменьшение числа в несколько раз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числять периметр многоугольника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числять площадь прямоугольника (квадрата)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ображать луч и отрезок, обозначать их буквами и читать обозначения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ить окружность с помощью циркуля.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Номер слайда 2"/>
          <p:cNvSpPr/>
          <p:nvPr/>
        </p:nvSpPr>
        <p:spPr>
          <a:xfrm>
            <a:off x="655308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10A0-A641-4954-A078-D47502855311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7176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кружающий мир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требования к уровню подготовки учащихся второго класса: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 концу обучения во втором классе учащиеся должны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называть (приводить примеры):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здорового и безопасного образа жизни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поведения на природе, в общественных местах, учреждениях культуры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права гражданина РБ и права ребенка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различать (соотносить):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ы живой и неживой природы, изделия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ителей растительного и животного мира и места их обитания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ческие понятия: заботливость, внимательность, деликатность, доброта и др.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решать задачи в учебных и бытовых ситуациях: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сить событие с датой его происхождения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изовать значение природы для человека и правила отношения к ней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сывать объект окружающего мира, предавать свое отношение к нему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навливать связь между природным объектом и условиями его обитания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ять портрет (автопортрет, друга, члена семьи, исторического лица)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ять сюжетные и описательные рассказы об изученных исторических событиях;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водить элементарные опыты и наблюдения (в соответствии с программой), фиксировать их результаты.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Номер слайда 2"/>
          <p:cNvSpPr/>
          <p:nvPr/>
        </p:nvSpPr>
        <p:spPr>
          <a:xfrm>
            <a:off x="655308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242A-6722-4FDB-800A-45D1F23565D7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Rectangle 2"/>
          <p:cNvGrpSpPr/>
          <p:nvPr/>
        </p:nvGrpSpPr>
        <p:grpSpPr>
          <a:xfrm>
            <a:off x="0" y="212760"/>
            <a:ext cx="9144000" cy="1146240"/>
            <a:chOff x="0" y="212760"/>
            <a:chExt cx="9144000" cy="1146240"/>
          </a:xfrm>
        </p:grpSpPr>
        <p:pic>
          <p:nvPicPr>
            <p:cNvPr id="109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212760"/>
              <a:ext cx="91440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0" y="21420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ыполняем домашнее задание</a:t>
              </a:r>
              <a:endParaRPr b="0" lang="en-US" sz="32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11" name="Rectangle 76"/>
          <p:cNvSpPr/>
          <p:nvPr/>
        </p:nvSpPr>
        <p:spPr>
          <a:xfrm>
            <a:off x="468360" y="1628640"/>
            <a:ext cx="822960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формировать представление родителей об организации учебной работы детей дома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Дать рекомендации родителям о том, как формировать у детей навыки самоконтроля, умение работать самостоятельно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655308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D143-E5A6-457A-8582-2750E5CF34DF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Rectangle 2"/>
          <p:cNvGrpSpPr/>
          <p:nvPr/>
        </p:nvGrpSpPr>
        <p:grpSpPr>
          <a:xfrm>
            <a:off x="0" y="212760"/>
            <a:ext cx="9144000" cy="1146240"/>
            <a:chOff x="0" y="212760"/>
            <a:chExt cx="9144000" cy="1146240"/>
          </a:xfrm>
        </p:grpSpPr>
        <p:pic>
          <p:nvPicPr>
            <p:cNvPr id="114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212760"/>
              <a:ext cx="91440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0" y="21420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Общие рекомендации к самоподготовке:</a:t>
              </a:r>
              <a:endParaRPr b="0" lang="en-US" sz="32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олнять домашнюю работу нужно начинать в точно установленное время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жде чем начать заниматься, проверь готовность рабочего места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ступая к работе, сосредоточься, подумай с чего начнешь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райся все затруднения решить самостоятельно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 задании узнай в дневнике или по закладкам в учебнике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был правило, постарайся вспомнить, проверь себя по учебнику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чинай самоподготовку в определенном порядке, например: русский, белорусский, математика, чтение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655308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DC94-4289-481A-B3E8-2D8DA3B739F7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исьменные задания: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имательно прочитай задание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тори по учебнику, выучи определения, правила, связанные с выполнением данной работы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выполнения письменного задания внимательно проверь написанное;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шибки исправляй аккуратно, в соответствии с рекомендациями учителя.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Номер слайда 2"/>
          <p:cNvSpPr/>
          <p:nvPr/>
        </p:nvSpPr>
        <p:spPr>
          <a:xfrm>
            <a:off x="655308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0460-A11F-499F-8B76-0B2D95139AF5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чалка</dc:creator>
  <dc:description/>
  <dc:language>en-US</dc:language>
  <cp:lastModifiedBy>PC</cp:lastModifiedBy>
  <dcterms:modified xsi:type="dcterms:W3CDTF">2020-11-25T11:54:23Z</dcterms:modified>
  <cp:revision>154</cp:revision>
  <dc:subject/>
  <dc:title>Слайд 1</dc:title>
</cp:coreProperties>
</file>