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3D4-C667-4955-89C3-5DC77F10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1AC-FEF9-40E8-82C5-04E700EF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F3C-4AAF-41D1-AC29-D29CE12F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956-A5B7-4939-A0C6-3D6403BB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36B-83F3-4146-A9B0-CD4DA71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E89-0249-40FF-BE4C-8A37BEF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5C7-4947-49A7-AF8B-916BEA2D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723-4576-4AEE-A128-BE85A066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16D-F034-4DB3-9ECF-E0B062D4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D31-1758-4AAD-8016-3887B60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1F8-1006-431A-A6A3-2AED86AA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0FD-5180-4893-B75D-FFB1F6D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3606-E199-4376-96D8-F69A3C061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5"/>
          <p:cNvSpPr/>
          <p:nvPr/>
        </p:nvSpPr>
        <p:spPr>
          <a:xfrm>
            <a:off x="285840" y="285840"/>
            <a:ext cx="8643960" cy="621504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33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800" spc="-1" strike="noStrike">
                <a:solidFill>
                  <a:srgbClr val="002060"/>
                </a:solidFill>
                <a:latin typeface="Georgia"/>
              </a:rPr>
              <a:t>Рашэнне ўраўненняў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3880" y="314316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4" name="Скругленный прямоугольник 2"/>
          <p:cNvSpPr/>
          <p:nvPr/>
        </p:nvSpPr>
        <p:spPr>
          <a:xfrm>
            <a:off x="755640" y="537372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3"/>
          <p:cNvSpPr/>
          <p:nvPr/>
        </p:nvSpPr>
        <p:spPr>
          <a:xfrm>
            <a:off x="357120" y="214200"/>
            <a:ext cx="8501040" cy="6286680"/>
          </a:xfrm>
          <a:prstGeom prst="roundRect">
            <a:avLst>
              <a:gd name="adj" fmla="val 16667"/>
            </a:avLst>
          </a:prstGeom>
          <a:solidFill>
            <a:srgbClr val="d9e3eb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Самаправер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39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4240" y="1071720"/>
          <a:ext cx="7786800" cy="4941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58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35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чн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 цукер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be-BY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машы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5"/>
          <p:cNvSpPr/>
          <p:nvPr/>
        </p:nvSpPr>
        <p:spPr>
          <a:xfrm>
            <a:off x="214200" y="214200"/>
            <a:ext cx="8715600" cy="650088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айцы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5" name="Picture 2" descr="F:\Desktop\i.jpg"/>
          <p:cNvPicPr/>
          <p:nvPr/>
        </p:nvPicPr>
        <p:blipFill>
          <a:blip r:embed="rId1"/>
          <a:stretch/>
        </p:blipFill>
        <p:spPr>
          <a:xfrm>
            <a:off x="2286000" y="1844640"/>
            <a:ext cx="4319640" cy="3448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567080" y="5445000"/>
            <a:ext cx="57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зякуй усім за ўро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4"/>
          <p:cNvSpPr/>
          <p:nvPr/>
        </p:nvSpPr>
        <p:spPr>
          <a:xfrm>
            <a:off x="142920" y="0"/>
            <a:ext cx="9001080" cy="68580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F:\Desktop\i.jpg"/>
          <p:cNvPicPr/>
          <p:nvPr/>
        </p:nvPicPr>
        <p:blipFill>
          <a:blip r:embed="rId1"/>
          <a:stretch/>
        </p:blipFill>
        <p:spPr>
          <a:xfrm>
            <a:off x="2421000" y="2038320"/>
            <a:ext cx="3786120" cy="302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0000"/>
                </a:solidFill>
                <a:latin typeface="Calibri"/>
              </a:rPr>
              <a:t>Дэвіз урок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 </a:t>
            </a:r>
            <a:br>
              <a:rPr sz="4000"/>
            </a:br>
            <a:r>
              <a:rPr b="0" lang="be-BY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рогу </a:t>
            </a:r>
            <a:r>
              <a:rPr b="0" lang="be-BY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ужае ідучы па ёй чалавек</a:t>
            </a:r>
            <a:r>
              <a:rPr b="0" lang="be-BY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29"/>
                </a:solidFill>
                <a:latin typeface="Georgia"/>
              </a:rPr>
              <a:t>                          </a:t>
            </a:r>
            <a:r>
              <a:rPr b="0" lang="ru-RU" sz="3200" spc="-1" strike="noStrike">
                <a:solidFill>
                  <a:srgbClr val="232329"/>
                </a:solidFill>
                <a:latin typeface="Georgia"/>
              </a:rPr>
              <a:t>Поспехаў в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22"/>
          <p:cNvSpPr/>
          <p:nvPr/>
        </p:nvSpPr>
        <p:spPr>
          <a:xfrm>
            <a:off x="316080" y="274680"/>
            <a:ext cx="8643600" cy="635796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6858000" y="214200"/>
            <a:ext cx="21146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яркуйце прапанаваныя прыклады па слуп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85840" y="4357800"/>
          <a:ext cx="8429400" cy="50004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кавыя выр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тарныя выр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аўн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3" name="Скругленный прямоугольник 5"/>
          <p:cNvSpPr/>
          <p:nvPr/>
        </p:nvSpPr>
        <p:spPr>
          <a:xfrm>
            <a:off x="285840" y="142920"/>
            <a:ext cx="46080" cy="46080"/>
          </a:xfrm>
          <a:prstGeom prst="roundRect">
            <a:avLst>
              <a:gd name="adj" fmla="val 16667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607680" y="185724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274+323):3;</a:t>
            </a:r>
            <a:r>
              <a:rPr b="0" lang="ru-RU" sz="1800" spc="-1" strike="noStrike">
                <a:solidFill>
                  <a:srgbClr val="23232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57184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х+184) – 6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4878720" y="185724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316 – 18) – 11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471240" y="235728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х + 25) – 13=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3008880" y="242892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</a:t>
            </a:r>
            <a:r>
              <a:rPr b="1" lang="en-US" sz="2000" spc="-1" strike="noStrike">
                <a:solidFill>
                  <a:srgbClr val="232329"/>
                </a:solidFill>
                <a:latin typeface="Georgia"/>
              </a:rPr>
              <a:t>m</a:t>
            </a: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+ 42):</a:t>
            </a:r>
            <a:r>
              <a:rPr b="1" lang="en-US" sz="2000" spc="-1" strike="noStrike">
                <a:solidFill>
                  <a:srgbClr val="232329"/>
                </a:solidFill>
                <a:latin typeface="Georgia"/>
              </a:rPr>
              <a:t>n</a:t>
            </a: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9120" y="24289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275- у=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6858000" y="2643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2329"/>
                </a:solidFill>
                <a:latin typeface="Georgia"/>
              </a:rPr>
              <a:t>m</a:t>
            </a:r>
            <a:r>
              <a:rPr b="1" lang="ru-RU" sz="1800" spc="-1" strike="noStrike">
                <a:solidFill>
                  <a:srgbClr val="232329"/>
                </a:solidFill>
                <a:latin typeface="Georgia"/>
              </a:rPr>
              <a:t>:3+</a:t>
            </a:r>
            <a:r>
              <a:rPr b="1" lang="en-US" sz="1800" spc="-1" strike="noStrike">
                <a:solidFill>
                  <a:srgbClr val="232329"/>
                </a:solidFill>
                <a:latin typeface="Georgia"/>
              </a:rPr>
              <a:t>n</a:t>
            </a:r>
            <a:r>
              <a:rPr b="1" lang="ru-RU" sz="1800" spc="-1" strike="noStrike">
                <a:solidFill>
                  <a:srgbClr val="232329"/>
                </a:solidFill>
                <a:latin typeface="Georgia"/>
              </a:rPr>
              <a:t>: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608400" y="307188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742+856)+ (134+14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561240" y="37861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4789 +</a:t>
            </a:r>
            <a:r>
              <a:rPr b="1" lang="en-US" sz="2000" spc="-1" strike="noStrike">
                <a:solidFill>
                  <a:srgbClr val="232329"/>
                </a:solidFill>
                <a:latin typeface="Georgia"/>
              </a:rPr>
              <a:t>d</a:t>
            </a: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) – 178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3143160" y="37148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638+ х = 8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046 L -0.01562 0.4625 E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74 0.00069 L 0.05035 0.58865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4 0.06336 L -0.49931 0.50382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261 L 0.62639 0.38946 E">
                                      <p:cBhvr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07214 L 0.01719 0.37873 E">
                                      <p:cBhvr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8 0.04324 L 0.16354 0.46266 E">
                                      <p:cBhvr>
                                        <p:cTn id="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7 L -0.38316 0.42754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4.44444E-006 0.38819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1319 L 0.23021 0.35926 E">
                                      <p:cBhvr>
                                        <p:cTn id="3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0.04463 L 0.35017 0.35931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4"/>
          <p:cNvSpPr/>
          <p:nvPr/>
        </p:nvSpPr>
        <p:spPr>
          <a:xfrm>
            <a:off x="428760" y="214200"/>
            <a:ext cx="8501040" cy="64296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39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32329"/>
                </a:solidFill>
                <a:latin typeface="Georgia"/>
              </a:rPr>
              <a:t>    </a:t>
            </a:r>
            <a:br>
              <a:rPr sz="4000"/>
            </a:br>
            <a:r>
              <a:rPr b="0" lang="ru-RU" sz="4000" spc="-1" strike="noStrike">
                <a:solidFill>
                  <a:srgbClr val="232329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 </a:t>
            </a:r>
            <a:r>
              <a:rPr b="0" lang="be-B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я выразы называюцца лікавымі?</a:t>
            </a:r>
            <a:br>
              <a:rPr sz="3200"/>
            </a:br>
            <a:r>
              <a:rPr b="0" lang="be-B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Якія выразы называюцца літарнымі?</a:t>
            </a:r>
            <a:br>
              <a:rPr sz="3200"/>
            </a:br>
            <a:r>
              <a:rPr b="0" lang="be-B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Што такое ўраўненне з адным невядомым? </a:t>
            </a:r>
            <a:br>
              <a:rPr sz="3200"/>
            </a:br>
            <a:r>
              <a:rPr b="0" lang="be-B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Што значыць рашыць ураўненне? </a:t>
            </a:r>
            <a:br>
              <a:rPr sz="3200"/>
            </a:br>
            <a:r>
              <a:rPr b="0" lang="be-B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Што называецца коранем ураўненн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28400" y="3886200"/>
            <a:ext cx="6357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Малайцы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rcRect l="10809" t="14612" r="0" b="0"/>
          <a:stretch/>
        </p:blipFill>
        <p:spPr>
          <a:xfrm>
            <a:off x="6372360" y="4221000"/>
            <a:ext cx="1974600" cy="2257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8"/>
          <p:cNvSpPr/>
          <p:nvPr/>
        </p:nvSpPr>
        <p:spPr>
          <a:xfrm>
            <a:off x="428760" y="214200"/>
            <a:ext cx="8501040" cy="64296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eorgia"/>
              </a:rPr>
              <a:t>Вусна рашыце ўраўненні і запішыце ад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539640" y="1916280"/>
            <a:ext cx="23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с + 10= 9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40+у =8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24 – а =1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30+с=7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5448600" y="2060640"/>
            <a:ext cx="239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a-5</a:t>
            </a: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 =</a:t>
            </a:r>
            <a:r>
              <a:rPr b="0" lang="en-US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45</a:t>
            </a: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а+15 = 10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х- 10= 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Times New Roman"/>
                <a:ea typeface="Times New Roman"/>
              </a:rPr>
              <a:t>40 – х = 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843280" y="1940040"/>
            <a:ext cx="79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740720" y="2060640"/>
            <a:ext cx="110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14"/>
          <p:cNvSpPr/>
          <p:nvPr/>
        </p:nvSpPr>
        <p:spPr>
          <a:xfrm>
            <a:off x="357120" y="299880"/>
            <a:ext cx="8501040" cy="62154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50920" y="-4932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шыць ураўненні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41080" y="119700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98) + 14 = 16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227640" y="117468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каз: 57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46188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 35 + у) – 15 = 3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6312600" y="216072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каз: 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497520" y="3405240"/>
            <a:ext cx="69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паўняльнае заданн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495360" y="4622760"/>
            <a:ext cx="35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х-49)+71=1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6377400" y="4622760"/>
            <a:ext cx="23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каз:12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477720" y="577548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94+(х-76)=2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51840" y="5775480"/>
            <a:ext cx="23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каз:1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be-B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324000" y="404640"/>
            <a:ext cx="8501040" cy="62154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50385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редставим, дет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руки наши – вет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чаем ими дружно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ветер дует южны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тих. Вздохнули друж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урок продолжить нуж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внялись, тихо се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ран вс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мотр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http://animashki.kak2z.org/pic/39/animashki-sport-1096.gif"/>
          <p:cNvPicPr/>
          <p:nvPr/>
        </p:nvPicPr>
        <p:blipFill>
          <a:blip r:embed="rId1"/>
          <a:stretch/>
        </p:blipFill>
        <p:spPr>
          <a:xfrm>
            <a:off x="5724360" y="1557360"/>
            <a:ext cx="269244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3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шэнне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яхай у карзіне было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рыбоў, калі палажылі яшчэ 27 грыбоў, там стала  75 грыбоў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+ 27 = 7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75 – 2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= 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каз: 48 грыбоў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карзіне было некалькі грыбоў. Пасля таго, як у яе палажылі яшчэ 27 грыбоў, іх стала 75. Колькі грыбоў было ў карзіне першапачаткова?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212" descr=""/>
          <p:cNvPicPr/>
          <p:nvPr/>
        </p:nvPicPr>
        <p:blipFill>
          <a:blip r:embed="rId1"/>
          <a:stretch/>
        </p:blipFill>
        <p:spPr>
          <a:xfrm>
            <a:off x="571680" y="4357800"/>
            <a:ext cx="15238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3"/>
          <p:cNvSpPr/>
          <p:nvPr/>
        </p:nvSpPr>
        <p:spPr>
          <a:xfrm>
            <a:off x="214200" y="214200"/>
            <a:ext cx="8715600" cy="650088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Самастой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2735280" y="2133720"/>
            <a:ext cx="3673440" cy="415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3:38:30Z</dcterms:created>
  <dc:creator>ШурыгинаИВ</dc:creator>
  <dc:description/>
  <dc:language>en-US</dc:language>
  <cp:lastModifiedBy>Физика</cp:lastModifiedBy>
  <dcterms:modified xsi:type="dcterms:W3CDTF">2016-11-22T06:51:53Z</dcterms:modified>
  <cp:revision>65</cp:revision>
  <dc:subject/>
  <dc:title>Решение уравнений</dc:title>
</cp:coreProperties>
</file>