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3CF-9AA7-4F4D-A663-C34CBE85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76E-0EE6-4D1E-834F-55B816B9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2E5-FE7A-4AEB-8E66-BDA68A6C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3B4-2B82-460E-BE12-340FCCC2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C90-9418-45C8-956D-FC11F55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5DB-BAE8-4C68-9A2D-DC77CE9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854-72E7-4547-A544-C180F2B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9AAE-A6CE-4759-A8EF-27B0CE2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039-815C-4B51-9CD5-479E011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025A-E0A2-4FE6-9ADF-F50327B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BC3-F70A-4574-A096-7B0AA7C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58-D56B-4184-811F-5819BE76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D9A2-7440-4245-A18E-6DF9465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04D-ABE3-4949-BB53-3866561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CCC-6F85-4872-85B6-A4FE0C7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F703-7178-4658-80F0-913935D8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D49B-5F4C-4D55-89A6-0ADD0B5A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21C-121B-40BF-86FB-A656CA5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F6F-7B27-49FA-86B5-A2AA8E6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A20-BD7D-45EF-8878-E17293C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BF4-DFD5-4BDA-89C7-C12A3789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A3-359B-441C-82BB-91FEF3E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CCA-D08B-432A-AAA3-EA03EBD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65E-0098-430E-838E-089FFFE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9A7-45AC-4BD0-A470-90CF67EED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11D2-810D-4626-BA24-D58B20B0B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3" name="Объект 4" descr=""/>
          <p:cNvPicPr/>
          <p:nvPr/>
        </p:nvPicPr>
        <p:blipFill>
          <a:blip r:embed="rId1"/>
          <a:srcRect l="0" t="0" r="0" b="-1653"/>
          <a:stretch/>
        </p:blipFill>
        <p:spPr>
          <a:xfrm>
            <a:off x="684360" y="47628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Наблюдай-к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68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частливого пути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1403280" y="1476360"/>
            <a:ext cx="547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2627280" y="1417680"/>
            <a:ext cx="34527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Составляй-к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2274840" y="1417680"/>
            <a:ext cx="40975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464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частливого пути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1403280" y="1476360"/>
            <a:ext cx="547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Сочиняй-к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82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частливого пути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1403280" y="1476360"/>
            <a:ext cx="547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Конечная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8" name="Объект 6" descr=""/>
          <p:cNvPicPr/>
          <p:nvPr/>
        </p:nvPicPr>
        <p:blipFill>
          <a:blip r:embed="rId1"/>
          <a:stretch/>
        </p:blipFill>
        <p:spPr>
          <a:xfrm>
            <a:off x="735120" y="1417680"/>
            <a:ext cx="3476520" cy="410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796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занимались сегодня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вам запомнилось больше все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онравило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узнали ново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дсчитываем билетик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092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звенел, друзья, звонок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9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11164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 где ты на дороге к знаниям по теме «Предложение»?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2386080" y="1600200"/>
            <a:ext cx="37702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5" name="Объект 5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456000" cy="319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64796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словар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.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703440" y="620640"/>
            <a:ext cx="7737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бро пожаловать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1619280" y="1417680"/>
            <a:ext cx="54007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БУС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1927080" y="1417680"/>
            <a:ext cx="528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Словознай-к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2195640" y="1417680"/>
            <a:ext cx="4321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ПУТАНИЦ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ЛОПРЕДИЕЖЕ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«ПРЕДЛОЖЕНИЕ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частливого пути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1403280" y="1476360"/>
            <a:ext cx="547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ановка «Вспоминай-ка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8" name="Объект 4" descr=""/>
          <p:cNvPicPr/>
          <p:nvPr/>
        </p:nvPicPr>
        <p:blipFill>
          <a:blip r:embed="rId1"/>
          <a:stretch/>
        </p:blipFill>
        <p:spPr>
          <a:xfrm>
            <a:off x="2268360" y="1417680"/>
            <a:ext cx="410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частливого пути!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1403280" y="1476360"/>
            <a:ext cx="547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5:02:19Z</dcterms:created>
  <dc:creator>User</dc:creator>
  <dc:description>Шаблон оформления
Корпорация Майкрософт</dc:description>
  <cp:keywords/>
  <dc:language>en-US</dc:language>
  <cp:lastModifiedBy>User</cp:lastModifiedBy>
  <dcterms:modified xsi:type="dcterms:W3CDTF">2018-09-30T20:44:52Z</dcterms:modified>
  <cp:revision>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